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8B58-F9A8-457F-8904-55C62064F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D598-CC8A-4618-AEA4-6C88F494D5C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B875-61A0-4087-AC38-649B9C18031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3560" cy="32050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. Morim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Charm &amp; Crisis in Radi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odern Radio Science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C957-EE67-4992-9E1B-8E464E381BE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3560" cy="32050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. Morim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Charm &amp; Crisis in Radi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odern Radio Science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August 4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AP-RASC '01 - Session J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C1C0-3E8C-47A8-83BA-49059292100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August 4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AP-RASC '01 - Session J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70B8-C8C7-473E-B730-AF6DB14EB70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03040" y="3957480"/>
            <a:ext cx="73436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03040" y="395748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66120" y="395748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85960" y="138600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69240" y="138600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03040" y="395748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85960" y="395748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69240" y="395748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1386000"/>
            <a:ext cx="73436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03040" y="81000"/>
            <a:ext cx="7343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395748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03040" y="1386000"/>
            <a:ext cx="73436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66120" y="395748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3957480"/>
            <a:ext cx="73436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3957480"/>
            <a:ext cx="73436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395748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66120" y="395748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85960" y="138600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69240" y="138600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395748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85960" y="395748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69240" y="395748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103040" y="1386000"/>
            <a:ext cx="73436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103040" y="81000"/>
            <a:ext cx="7343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03040" y="395748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866120" y="395748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03040" y="3957480"/>
            <a:ext cx="73436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73436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103040" y="3957480"/>
            <a:ext cx="73436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03040" y="395748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866120" y="395748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85960" y="138600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69240" y="138600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103040" y="395748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85960" y="395748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69240" y="3957480"/>
            <a:ext cx="23644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03040" y="81000"/>
            <a:ext cx="7343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03040" y="395748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66120" y="395748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304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6120" y="1386000"/>
            <a:ext cx="35834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3040" y="3957480"/>
            <a:ext cx="734364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080" y="-6120"/>
            <a:ext cx="9298080" cy="6863760"/>
            <a:chOff x="-154080" y="-6120"/>
            <a:chExt cx="9298080" cy="6863760"/>
          </a:xfrm>
        </p:grpSpPr>
        <p:pic>
          <p:nvPicPr>
            <p:cNvPr id="1" name="Picture 3" descr="text_slide_nolines_070618"/>
            <p:cNvPicPr/>
            <p:nvPr/>
          </p:nvPicPr>
          <p:blipFill>
            <a:blip r:embed="rId2"/>
            <a:srcRect l="0" t="11263" r="476" b="0"/>
            <a:stretch/>
          </p:blipFill>
          <p:spPr>
            <a:xfrm>
              <a:off x="0" y="0"/>
              <a:ext cx="9144000" cy="114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Group 4"/>
            <p:cNvGrpSpPr/>
            <p:nvPr/>
          </p:nvGrpSpPr>
          <p:grpSpPr>
            <a:xfrm>
              <a:off x="-154080" y="-6120"/>
              <a:ext cx="984960" cy="6863760"/>
              <a:chOff x="-154080" y="-6120"/>
              <a:chExt cx="984960" cy="6863760"/>
            </a:xfrm>
          </p:grpSpPr>
          <p:sp>
            <p:nvSpPr>
              <p:cNvPr id="3" name="Line 5"/>
              <p:cNvSpPr/>
              <p:nvPr/>
            </p:nvSpPr>
            <p:spPr>
              <a:xfrm flipH="1">
                <a:off x="230040" y="-6120"/>
                <a:ext cx="600840" cy="686196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 flipH="1">
                <a:off x="99720" y="-6120"/>
                <a:ext cx="600840" cy="686196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 flipH="1">
                <a:off x="163800" y="-4320"/>
                <a:ext cx="600480" cy="686196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 flipH="1">
                <a:off x="36360" y="-4320"/>
                <a:ext cx="600840" cy="686196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 flipH="1">
                <a:off x="-93960" y="-4320"/>
                <a:ext cx="600840" cy="686196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 flipH="1">
                <a:off x="-30240" y="-6120"/>
                <a:ext cx="600840" cy="686196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 flipH="1">
                <a:off x="-154080" y="-6120"/>
                <a:ext cx="600840" cy="686196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" name="Picture 12" descr="20070618_csiro7024"/>
            <p:cNvPicPr/>
            <p:nvPr/>
          </p:nvPicPr>
          <p:blipFill>
            <a:blip r:embed="rId3"/>
            <a:stretch/>
          </p:blipFill>
          <p:spPr>
            <a:xfrm>
              <a:off x="8478720" y="6332400"/>
              <a:ext cx="324000" cy="38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103040" y="1386000"/>
            <a:ext cx="73436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893880" indent="-176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574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1"/>
          </p:nvPr>
        </p:nvSpPr>
        <p:spPr>
          <a:xfrm>
            <a:off x="1103040" y="6587640"/>
            <a:ext cx="7343640" cy="257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99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cc"/>
                </a:solidFill>
                <a:latin typeface="Times New Roman"/>
              </a:rPr>
              <a:t>IUCAF Summer School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-154080" y="-6120"/>
            <a:ext cx="9298080" cy="6863760"/>
            <a:chOff x="-154080" y="-6120"/>
            <a:chExt cx="9298080" cy="6863760"/>
          </a:xfrm>
        </p:grpSpPr>
        <p:pic>
          <p:nvPicPr>
            <p:cNvPr id="51" name="Picture 3" descr="text_slide_nolines_070618"/>
            <p:cNvPicPr/>
            <p:nvPr/>
          </p:nvPicPr>
          <p:blipFill>
            <a:blip r:embed="rId2"/>
            <a:srcRect l="0" t="11263" r="476" b="0"/>
            <a:stretch/>
          </p:blipFill>
          <p:spPr>
            <a:xfrm>
              <a:off x="0" y="0"/>
              <a:ext cx="9144000" cy="114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Group 4"/>
            <p:cNvGrpSpPr/>
            <p:nvPr/>
          </p:nvGrpSpPr>
          <p:grpSpPr>
            <a:xfrm>
              <a:off x="-154080" y="-6120"/>
              <a:ext cx="984960" cy="6863760"/>
              <a:chOff x="-154080" y="-6120"/>
              <a:chExt cx="984960" cy="6863760"/>
            </a:xfrm>
          </p:grpSpPr>
          <p:sp>
            <p:nvSpPr>
              <p:cNvPr id="53" name="Line 5"/>
              <p:cNvSpPr/>
              <p:nvPr/>
            </p:nvSpPr>
            <p:spPr>
              <a:xfrm flipH="1">
                <a:off x="230040" y="-6120"/>
                <a:ext cx="600840" cy="686196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 flipH="1">
                <a:off x="99720" y="-6120"/>
                <a:ext cx="600840" cy="686196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 flipH="1">
                <a:off x="163800" y="-4320"/>
                <a:ext cx="600480" cy="686196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Line 8"/>
              <p:cNvSpPr/>
              <p:nvPr/>
            </p:nvSpPr>
            <p:spPr>
              <a:xfrm flipH="1">
                <a:off x="36360" y="-4320"/>
                <a:ext cx="600840" cy="686196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 flipH="1">
                <a:off x="-93960" y="-4320"/>
                <a:ext cx="600840" cy="686196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 flipH="1">
                <a:off x="-30240" y="-6120"/>
                <a:ext cx="600840" cy="686196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1"/>
              <p:cNvSpPr/>
              <p:nvPr/>
            </p:nvSpPr>
            <p:spPr>
              <a:xfrm flipH="1">
                <a:off x="-154080" y="-6120"/>
                <a:ext cx="600840" cy="686196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0" name="Picture 12" descr="20070618_csiro7024"/>
            <p:cNvPicPr/>
            <p:nvPr/>
          </p:nvPicPr>
          <p:blipFill>
            <a:blip r:embed="rId3"/>
            <a:stretch/>
          </p:blipFill>
          <p:spPr>
            <a:xfrm>
              <a:off x="8478720" y="6332400"/>
              <a:ext cx="324000" cy="38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03040" y="1386000"/>
            <a:ext cx="73436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893880" indent="-176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574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2"/>
          </p:nvPr>
        </p:nvSpPr>
        <p:spPr>
          <a:xfrm>
            <a:off x="1103040" y="6587640"/>
            <a:ext cx="7343640" cy="257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99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cc"/>
                </a:solidFill>
                <a:latin typeface="Times New Roman"/>
              </a:rPr>
              <a:t>IUCAF Summer School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title_image_070615"/>
          <p:cNvPicPr/>
          <p:nvPr/>
        </p:nvPicPr>
        <p:blipFill>
          <a:blip r:embed="rId2"/>
          <a:srcRect l="0" t="11216" r="0" b="16235"/>
          <a:stretch/>
        </p:blipFill>
        <p:spPr>
          <a:xfrm>
            <a:off x="971640" y="0"/>
            <a:ext cx="8172360" cy="386064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3"/>
          <p:cNvGrpSpPr/>
          <p:nvPr/>
        </p:nvGrpSpPr>
        <p:grpSpPr>
          <a:xfrm>
            <a:off x="-6480" y="0"/>
            <a:ext cx="9150480" cy="6857640"/>
            <a:chOff x="-6480" y="0"/>
            <a:chExt cx="9150480" cy="6857640"/>
          </a:xfrm>
        </p:grpSpPr>
        <p:grpSp>
          <p:nvGrpSpPr>
            <p:cNvPr id="102" name="Group 4"/>
            <p:cNvGrpSpPr/>
            <p:nvPr/>
          </p:nvGrpSpPr>
          <p:grpSpPr>
            <a:xfrm>
              <a:off x="-6480" y="0"/>
              <a:ext cx="1357200" cy="3789360"/>
              <a:chOff x="-6480" y="0"/>
              <a:chExt cx="1357200" cy="3789360"/>
            </a:xfrm>
          </p:grpSpPr>
          <p:sp>
            <p:nvSpPr>
              <p:cNvPr id="103" name="AutoShape 5"/>
              <p:cNvSpPr/>
              <p:nvPr/>
            </p:nvSpPr>
            <p:spPr>
              <a:xfrm>
                <a:off x="19080" y="0"/>
                <a:ext cx="1331640" cy="3789360"/>
              </a:xfrm>
              <a:prstGeom prst="parallelogram">
                <a:avLst>
                  <a:gd name="adj" fmla="val 2502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6"/>
              <p:cNvSpPr/>
              <p:nvPr/>
            </p:nvSpPr>
            <p:spPr>
              <a:xfrm>
                <a:off x="-6480" y="0"/>
                <a:ext cx="611280" cy="378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Line 7"/>
            <p:cNvSpPr/>
            <p:nvPr/>
          </p:nvSpPr>
          <p:spPr>
            <a:xfrm>
              <a:off x="857160" y="5411880"/>
              <a:ext cx="828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Picture 8" descr="20070618_csiro7024"/>
            <p:cNvPicPr/>
            <p:nvPr/>
          </p:nvPicPr>
          <p:blipFill>
            <a:blip r:embed="rId3"/>
            <a:stretch/>
          </p:blipFill>
          <p:spPr>
            <a:xfrm>
              <a:off x="8013600" y="5832360"/>
              <a:ext cx="66672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9" descr="title_slide_nolineslrg"/>
            <p:cNvPicPr/>
            <p:nvPr/>
          </p:nvPicPr>
          <p:blipFill>
            <a:blip r:embed="rId4"/>
            <a:srcRect l="0" t="8669" r="138" b="0"/>
            <a:stretch/>
          </p:blipFill>
          <p:spPr>
            <a:xfrm>
              <a:off x="-4680" y="3787920"/>
              <a:ext cx="9148680" cy="16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Line 10"/>
            <p:cNvSpPr/>
            <p:nvPr/>
          </p:nvSpPr>
          <p:spPr>
            <a:xfrm>
              <a:off x="0" y="5138640"/>
              <a:ext cx="895320" cy="0"/>
            </a:xfrm>
            <a:prstGeom prst="line">
              <a:avLst/>
            </a:prstGeom>
            <a:ln w="28440">
              <a:solidFill>
                <a:srgbClr val="bed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Group 11"/>
            <p:cNvGrpSpPr/>
            <p:nvPr/>
          </p:nvGrpSpPr>
          <p:grpSpPr>
            <a:xfrm>
              <a:off x="362520" y="360"/>
              <a:ext cx="984240" cy="6857280"/>
              <a:chOff x="362520" y="360"/>
              <a:chExt cx="984240" cy="6857280"/>
            </a:xfrm>
          </p:grpSpPr>
          <p:sp>
            <p:nvSpPr>
              <p:cNvPr id="110" name="Line 12"/>
              <p:cNvSpPr/>
              <p:nvPr/>
            </p:nvSpPr>
            <p:spPr>
              <a:xfrm flipH="1">
                <a:off x="746640" y="360"/>
                <a:ext cx="600120" cy="685548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13"/>
              <p:cNvSpPr/>
              <p:nvPr/>
            </p:nvSpPr>
            <p:spPr>
              <a:xfrm flipH="1">
                <a:off x="616320" y="360"/>
                <a:ext cx="600120" cy="685548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4"/>
              <p:cNvSpPr/>
              <p:nvPr/>
            </p:nvSpPr>
            <p:spPr>
              <a:xfrm flipH="1">
                <a:off x="680400" y="2160"/>
                <a:ext cx="599760" cy="685548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 flipH="1">
                <a:off x="552960" y="2160"/>
                <a:ext cx="600120" cy="685548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 flipH="1">
                <a:off x="422640" y="2160"/>
                <a:ext cx="600120" cy="685548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 flipH="1">
                <a:off x="486360" y="360"/>
                <a:ext cx="600120" cy="685548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 flipH="1">
                <a:off x="362520" y="360"/>
                <a:ext cx="600120" cy="685548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103040" y="1386000"/>
            <a:ext cx="73436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893880" indent="-176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3" marL="12574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4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5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6" marL="161784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raf.eu/hbkfm.htm" TargetMode="External"/><Relationship Id="rId2" Type="http://schemas.openxmlformats.org/officeDocument/2006/relationships/hyperlink" Target="http://www.craf.eu/handbook.htm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0384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ffffff"/>
                </a:solidFill>
                <a:latin typeface="Arial"/>
              </a:rPr>
              <a:t>The RAS protected bands and use by R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18960" y="5410080"/>
            <a:ext cx="69339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99cc"/>
                </a:solidFill>
                <a:latin typeface="Arial"/>
              </a:rPr>
              <a:t>Tasso Tzioumis </a:t>
            </a:r>
            <a:r>
              <a:rPr b="0" i="1" lang="en-AU" sz="1600" spc="-1" strike="noStrike">
                <a:solidFill>
                  <a:srgbClr val="0099cc"/>
                </a:solidFill>
                <a:latin typeface="Arial"/>
              </a:rPr>
              <a:t>(Tasso.Tzioumis@csiro.au)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99cc"/>
                </a:solidFill>
                <a:latin typeface="Arial"/>
              </a:rPr>
              <a:t>Australia Telescope National Facility (ATNF)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99cc"/>
                </a:solidFill>
                <a:latin typeface="Arial"/>
              </a:rPr>
              <a:t>CSIRO Astronomy and Space Science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99cc"/>
                </a:solidFill>
                <a:latin typeface="Arial"/>
              </a:rPr>
              <a:t>SSS2010</a:t>
            </a: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–</a:t>
            </a:r>
            <a:r>
              <a:rPr b="1" lang="en-AU" sz="1600" spc="-1" strike="noStrike">
                <a:solidFill>
                  <a:srgbClr val="0099cc"/>
                </a:solidFill>
                <a:latin typeface="Arial"/>
              </a:rPr>
              <a:t> Mitaka             31 May – 4 June 2010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97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Einstein_ring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AS Allocations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03040" y="1386000"/>
            <a:ext cx="73436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Usual mixture of Primary (P) and Secondary (S) allocations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y vary between ITU-R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Most adjacent bands are allocated to active services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 margin of pro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ut of band emissions from adjacent or even distant b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Other co-primary allocations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metimes with activ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Passive primary bands P(passive)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ations only to passiv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 emissions are prohibited!   Footnote 5.3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ut difficult to protect in practice.. What level is “no emission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03400" y="81000"/>
            <a:ext cx="8269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ootnote 5.340 – No emissions – Passive b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Content Placeholder 4" descr="fn5.340.tiff"/>
          <p:cNvPicPr/>
          <p:nvPr/>
        </p:nvPicPr>
        <p:blipFill>
          <a:blip r:embed="rId1"/>
          <a:srcRect l="-32100" t="0" r="-32100" b="0"/>
          <a:stretch/>
        </p:blipFill>
        <p:spPr>
          <a:xfrm>
            <a:off x="58680" y="685800"/>
            <a:ext cx="8980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AS Allocation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38080" y="1218960"/>
            <a:ext cx="7608960" cy="50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&lt; 30 GHz: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% primary exclusive for passive frequency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% primary shared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% secondary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30 - 275 GHz: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8% primary exclusive for passive frequency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.3% primary shared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% secondary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All frequency bands &lt;275 GHz: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1% primary exclusive for passive frequency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.2% primary shared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6% secondary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410080" y="0"/>
            <a:ext cx="3733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TU RAS Spectrum 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- cm waveleng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3" descr="mm fig 4 copy100"/>
          <p:cNvPicPr/>
          <p:nvPr/>
        </p:nvPicPr>
        <p:blipFill>
          <a:blip r:embed="rId1"/>
          <a:stretch/>
        </p:blipFill>
        <p:spPr>
          <a:xfrm>
            <a:off x="0" y="0"/>
            <a:ext cx="52624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4"/>
          <p:cNvGrpSpPr/>
          <p:nvPr/>
        </p:nvGrpSpPr>
        <p:grpSpPr>
          <a:xfrm>
            <a:off x="762120" y="228600"/>
            <a:ext cx="2724120" cy="4876920"/>
            <a:chOff x="762120" y="228600"/>
            <a:chExt cx="2724120" cy="4876920"/>
          </a:xfrm>
        </p:grpSpPr>
        <p:sp>
          <p:nvSpPr>
            <p:cNvPr id="196" name="Line 5"/>
            <p:cNvSpPr/>
            <p:nvPr/>
          </p:nvSpPr>
          <p:spPr>
            <a:xfrm>
              <a:off x="1276560" y="381240"/>
              <a:ext cx="0" cy="228600"/>
            </a:xfrm>
            <a:prstGeom prst="line">
              <a:avLst/>
            </a:prstGeom>
            <a:ln w="3816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6"/>
            <p:cNvSpPr/>
            <p:nvPr/>
          </p:nvSpPr>
          <p:spPr>
            <a:xfrm>
              <a:off x="1409760" y="685800"/>
              <a:ext cx="0" cy="228600"/>
            </a:xfrm>
            <a:prstGeom prst="line">
              <a:avLst/>
            </a:prstGeom>
            <a:ln w="1908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1838520" y="895320"/>
              <a:ext cx="0" cy="228600"/>
            </a:xfrm>
            <a:prstGeom prst="line">
              <a:avLst/>
            </a:prstGeom>
            <a:ln w="1908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8"/>
            <p:cNvSpPr/>
            <p:nvPr/>
          </p:nvSpPr>
          <p:spPr>
            <a:xfrm>
              <a:off x="2819520" y="381240"/>
              <a:ext cx="0" cy="228600"/>
            </a:xfrm>
            <a:prstGeom prst="line">
              <a:avLst/>
            </a:prstGeom>
            <a:ln w="1908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9"/>
            <p:cNvSpPr/>
            <p:nvPr/>
          </p:nvSpPr>
          <p:spPr>
            <a:xfrm>
              <a:off x="971640" y="2667240"/>
              <a:ext cx="0" cy="228600"/>
            </a:xfrm>
            <a:prstGeom prst="line">
              <a:avLst/>
            </a:prstGeom>
            <a:ln w="5724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0"/>
            <p:cNvSpPr/>
            <p:nvPr/>
          </p:nvSpPr>
          <p:spPr>
            <a:xfrm>
              <a:off x="3009960" y="2667240"/>
              <a:ext cx="0" cy="228600"/>
            </a:xfrm>
            <a:prstGeom prst="line">
              <a:avLst/>
            </a:prstGeom>
            <a:ln w="7632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1"/>
            <p:cNvSpPr/>
            <p:nvPr/>
          </p:nvSpPr>
          <p:spPr>
            <a:xfrm>
              <a:off x="2800440" y="2438640"/>
              <a:ext cx="685800" cy="228600"/>
            </a:xfrm>
            <a:prstGeom prst="rect">
              <a:avLst/>
            </a:prstGeom>
            <a:noFill/>
            <a:ln w="1260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2"/>
            <p:cNvSpPr/>
            <p:nvPr/>
          </p:nvSpPr>
          <p:spPr>
            <a:xfrm>
              <a:off x="762120" y="2400480"/>
              <a:ext cx="685800" cy="228600"/>
            </a:xfrm>
            <a:prstGeom prst="rect">
              <a:avLst/>
            </a:prstGeom>
            <a:noFill/>
            <a:ln w="1260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3"/>
            <p:cNvSpPr/>
            <p:nvPr/>
          </p:nvSpPr>
          <p:spPr>
            <a:xfrm>
              <a:off x="2514600" y="228600"/>
              <a:ext cx="685800" cy="152640"/>
            </a:xfrm>
            <a:prstGeom prst="rect">
              <a:avLst/>
            </a:prstGeom>
            <a:noFill/>
            <a:ln w="1260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4"/>
            <p:cNvSpPr/>
            <p:nvPr/>
          </p:nvSpPr>
          <p:spPr>
            <a:xfrm>
              <a:off x="1657440" y="733680"/>
              <a:ext cx="685800" cy="152280"/>
            </a:xfrm>
            <a:prstGeom prst="rect">
              <a:avLst/>
            </a:prstGeom>
            <a:noFill/>
            <a:ln w="1260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5"/>
            <p:cNvSpPr/>
            <p:nvPr/>
          </p:nvSpPr>
          <p:spPr>
            <a:xfrm>
              <a:off x="1295640" y="524160"/>
              <a:ext cx="685800" cy="152280"/>
            </a:xfrm>
            <a:prstGeom prst="rect">
              <a:avLst/>
            </a:prstGeom>
            <a:noFill/>
            <a:ln w="1260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6"/>
            <p:cNvSpPr/>
            <p:nvPr/>
          </p:nvSpPr>
          <p:spPr>
            <a:xfrm>
              <a:off x="990720" y="228600"/>
              <a:ext cx="685800" cy="152640"/>
            </a:xfrm>
            <a:prstGeom prst="rect">
              <a:avLst/>
            </a:prstGeom>
            <a:noFill/>
            <a:ln w="1260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7"/>
            <p:cNvSpPr/>
            <p:nvPr/>
          </p:nvSpPr>
          <p:spPr>
            <a:xfrm>
              <a:off x="2210040" y="5105520"/>
              <a:ext cx="228600" cy="0"/>
            </a:xfrm>
            <a:prstGeom prst="line">
              <a:avLst/>
            </a:prstGeom>
            <a:ln w="7632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8"/>
            <p:cNvSpPr/>
            <p:nvPr/>
          </p:nvSpPr>
          <p:spPr>
            <a:xfrm>
              <a:off x="1524240" y="5105520"/>
              <a:ext cx="228600" cy="0"/>
            </a:xfrm>
            <a:prstGeom prst="line">
              <a:avLst/>
            </a:prstGeom>
            <a:ln w="7632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9"/>
            <p:cNvSpPr/>
            <p:nvPr/>
          </p:nvSpPr>
          <p:spPr>
            <a:xfrm>
              <a:off x="1419480" y="4529160"/>
              <a:ext cx="685800" cy="228600"/>
            </a:xfrm>
            <a:prstGeom prst="rect">
              <a:avLst/>
            </a:prstGeom>
            <a:noFill/>
            <a:ln w="1260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20"/>
            <p:cNvSpPr/>
            <p:nvPr/>
          </p:nvSpPr>
          <p:spPr>
            <a:xfrm>
              <a:off x="2133720" y="4753080"/>
              <a:ext cx="533520" cy="276120"/>
            </a:xfrm>
            <a:prstGeom prst="rect">
              <a:avLst/>
            </a:prstGeom>
            <a:noFill/>
            <a:ln w="1260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10080" y="1981080"/>
            <a:ext cx="373392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99cc"/>
                </a:solidFill>
                <a:latin typeface="Arial"/>
              </a:rPr>
              <a:t>In the metre and cm band &lt;1% is allocated to radio astronomy! 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10080" y="3504960"/>
            <a:ext cx="37339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99cc"/>
                </a:solidFill>
                <a:latin typeface="Arial"/>
              </a:rPr>
              <a:t>Need frequency coverage for redshifted lines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99cc"/>
                </a:solidFill>
                <a:latin typeface="Arial"/>
              </a:rPr>
              <a:t>Need  bandwidth for continuum sensitivity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57440" y="190440"/>
            <a:ext cx="342900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TU RAS Spectrum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- mm waveleng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99cc"/>
                </a:solidFill>
                <a:latin typeface="Arial"/>
              </a:rPr>
              <a:t>In the mm band the situation is better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57440" y="29718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99cc"/>
                </a:solidFill>
                <a:latin typeface="Arial"/>
              </a:rPr>
              <a:t>But old allocations were not at  best frequency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99cc"/>
                </a:solidFill>
                <a:latin typeface="Arial"/>
              </a:rPr>
              <a:t>WRC-2000 changes to allocations above 71GHz are a great improvement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217" name="Picture 5" descr="mm fig 5 copy100"/>
          <p:cNvPicPr/>
          <p:nvPr/>
        </p:nvPicPr>
        <p:blipFill>
          <a:blip r:embed="rId1"/>
          <a:stretch/>
        </p:blipFill>
        <p:spPr>
          <a:xfrm>
            <a:off x="0" y="0"/>
            <a:ext cx="5219640" cy="690084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6"/>
          <p:cNvGrpSpPr/>
          <p:nvPr/>
        </p:nvGrpSpPr>
        <p:grpSpPr>
          <a:xfrm>
            <a:off x="762120" y="685800"/>
            <a:ext cx="8229600" cy="5410080"/>
            <a:chOff x="762120" y="685800"/>
            <a:chExt cx="8229600" cy="5410080"/>
          </a:xfrm>
        </p:grpSpPr>
        <p:grpSp>
          <p:nvGrpSpPr>
            <p:cNvPr id="219" name="Group 7"/>
            <p:cNvGrpSpPr/>
            <p:nvPr/>
          </p:nvGrpSpPr>
          <p:grpSpPr>
            <a:xfrm>
              <a:off x="762120" y="685800"/>
              <a:ext cx="4267080" cy="4419720"/>
              <a:chOff x="762120" y="685800"/>
              <a:chExt cx="4267080" cy="4419720"/>
            </a:xfrm>
          </p:grpSpPr>
          <p:sp>
            <p:nvSpPr>
              <p:cNvPr id="220" name="Rectangle 8"/>
              <p:cNvSpPr/>
              <p:nvPr/>
            </p:nvSpPr>
            <p:spPr>
              <a:xfrm>
                <a:off x="3124080" y="685800"/>
                <a:ext cx="1739880" cy="7632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9"/>
              <p:cNvSpPr/>
              <p:nvPr/>
            </p:nvSpPr>
            <p:spPr>
              <a:xfrm>
                <a:off x="1143000" y="2895480"/>
                <a:ext cx="1523880" cy="7632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10"/>
              <p:cNvSpPr/>
              <p:nvPr/>
            </p:nvSpPr>
            <p:spPr>
              <a:xfrm>
                <a:off x="4572000" y="2895480"/>
                <a:ext cx="457200" cy="7632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11"/>
              <p:cNvSpPr/>
              <p:nvPr/>
            </p:nvSpPr>
            <p:spPr>
              <a:xfrm>
                <a:off x="762120" y="5029200"/>
                <a:ext cx="990360" cy="7632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12"/>
              <p:cNvSpPr/>
              <p:nvPr/>
            </p:nvSpPr>
            <p:spPr>
              <a:xfrm>
                <a:off x="2057400" y="5029200"/>
                <a:ext cx="1523880" cy="7632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Rectangle 13"/>
            <p:cNvSpPr/>
            <p:nvPr/>
          </p:nvSpPr>
          <p:spPr>
            <a:xfrm>
              <a:off x="5257800" y="4343400"/>
              <a:ext cx="3733920" cy="1752480"/>
            </a:xfrm>
            <a:prstGeom prst="rect">
              <a:avLst/>
            </a:prstGeom>
            <a:noFill/>
            <a:ln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14"/>
          <p:cNvGrpSpPr/>
          <p:nvPr/>
        </p:nvGrpSpPr>
        <p:grpSpPr>
          <a:xfrm>
            <a:off x="457200" y="304920"/>
            <a:ext cx="4081320" cy="4667040"/>
            <a:chOff x="457200" y="304920"/>
            <a:chExt cx="4081320" cy="4667040"/>
          </a:xfrm>
        </p:grpSpPr>
        <p:sp>
          <p:nvSpPr>
            <p:cNvPr id="227" name="Line 15"/>
            <p:cNvSpPr/>
            <p:nvPr/>
          </p:nvSpPr>
          <p:spPr>
            <a:xfrm>
              <a:off x="3362040" y="2819520"/>
              <a:ext cx="152640" cy="0"/>
            </a:xfrm>
            <a:prstGeom prst="line">
              <a:avLst/>
            </a:prstGeom>
            <a:ln w="7632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2504880" y="2809800"/>
              <a:ext cx="228600" cy="0"/>
            </a:xfrm>
            <a:prstGeom prst="line">
              <a:avLst/>
            </a:prstGeom>
            <a:ln w="7632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3066840" y="638280"/>
              <a:ext cx="304920" cy="0"/>
            </a:xfrm>
            <a:prstGeom prst="line">
              <a:avLst/>
            </a:prstGeom>
            <a:ln w="7632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005000" y="652320"/>
              <a:ext cx="533520" cy="0"/>
            </a:xfrm>
            <a:prstGeom prst="line">
              <a:avLst/>
            </a:prstGeom>
            <a:ln w="7632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066680" y="890640"/>
              <a:ext cx="76320" cy="0"/>
            </a:xfrm>
            <a:prstGeom prst="line">
              <a:avLst/>
            </a:prstGeom>
            <a:ln w="7632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0"/>
            <p:cNvSpPr/>
            <p:nvPr/>
          </p:nvSpPr>
          <p:spPr>
            <a:xfrm flipV="1">
              <a:off x="457200" y="609480"/>
              <a:ext cx="0" cy="76320"/>
            </a:xfrm>
            <a:prstGeom prst="line">
              <a:avLst/>
            </a:prstGeom>
            <a:ln w="5724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838080" y="533520"/>
              <a:ext cx="685800" cy="152280"/>
            </a:xfrm>
            <a:prstGeom prst="rect">
              <a:avLst/>
            </a:prstGeom>
            <a:noFill/>
            <a:ln w="1260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457200" y="304920"/>
              <a:ext cx="685800" cy="152280"/>
            </a:xfrm>
            <a:prstGeom prst="rect">
              <a:avLst/>
            </a:prstGeom>
            <a:noFill/>
            <a:ln w="1260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3"/>
            <p:cNvSpPr/>
            <p:nvPr/>
          </p:nvSpPr>
          <p:spPr>
            <a:xfrm>
              <a:off x="3047760" y="304920"/>
              <a:ext cx="381240" cy="152280"/>
            </a:xfrm>
            <a:prstGeom prst="rect">
              <a:avLst/>
            </a:prstGeom>
            <a:noFill/>
            <a:ln w="1260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3967200" y="304920"/>
              <a:ext cx="457200" cy="152280"/>
            </a:xfrm>
            <a:prstGeom prst="rect">
              <a:avLst/>
            </a:prstGeom>
            <a:noFill/>
            <a:ln w="1260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3200400" y="2514600"/>
              <a:ext cx="457200" cy="152280"/>
            </a:xfrm>
            <a:prstGeom prst="rect">
              <a:avLst/>
            </a:prstGeom>
            <a:noFill/>
            <a:ln w="1260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6"/>
            <p:cNvSpPr/>
            <p:nvPr/>
          </p:nvSpPr>
          <p:spPr>
            <a:xfrm>
              <a:off x="2390760" y="2543040"/>
              <a:ext cx="457200" cy="152640"/>
            </a:xfrm>
            <a:prstGeom prst="rect">
              <a:avLst/>
            </a:prstGeom>
            <a:noFill/>
            <a:ln w="1260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7"/>
            <p:cNvSpPr/>
            <p:nvPr/>
          </p:nvSpPr>
          <p:spPr>
            <a:xfrm>
              <a:off x="1066680" y="4610160"/>
              <a:ext cx="457200" cy="152280"/>
            </a:xfrm>
            <a:prstGeom prst="rect">
              <a:avLst/>
            </a:prstGeom>
            <a:noFill/>
            <a:ln w="1260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8"/>
            <p:cNvSpPr/>
            <p:nvPr/>
          </p:nvSpPr>
          <p:spPr>
            <a:xfrm>
              <a:off x="2971800" y="4667400"/>
              <a:ext cx="457200" cy="152280"/>
            </a:xfrm>
            <a:prstGeom prst="rect">
              <a:avLst/>
            </a:prstGeom>
            <a:noFill/>
            <a:ln w="1260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29"/>
            <p:cNvSpPr/>
            <p:nvPr/>
          </p:nvSpPr>
          <p:spPr>
            <a:xfrm>
              <a:off x="3028680" y="4971960"/>
              <a:ext cx="457200" cy="0"/>
            </a:xfrm>
            <a:prstGeom prst="line">
              <a:avLst/>
            </a:prstGeom>
            <a:ln w="7632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0"/>
            <p:cNvSpPr/>
            <p:nvPr/>
          </p:nvSpPr>
          <p:spPr>
            <a:xfrm>
              <a:off x="676080" y="4857840"/>
              <a:ext cx="762120" cy="0"/>
            </a:xfrm>
            <a:prstGeom prst="line">
              <a:avLst/>
            </a:prstGeom>
            <a:ln w="76320">
              <a:solidFill>
                <a:srgbClr val="cb5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5530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 bands above 71 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80640"/>
            <a:ext cx="76849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commendation RA.314 – Preferred ba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Content Placeholder 3" descr="ras_lines_314.tiff"/>
          <p:cNvPicPr/>
          <p:nvPr/>
        </p:nvPicPr>
        <p:blipFill>
          <a:blip r:embed="rId1"/>
          <a:srcRect l="-29086" t="0" r="-29086" b="0"/>
          <a:stretch/>
        </p:blipFill>
        <p:spPr>
          <a:xfrm>
            <a:off x="-914400" y="512640"/>
            <a:ext cx="9464760" cy="6345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6808680" y="1143000"/>
            <a:ext cx="2487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nly a small part of lis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ist under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ny thousands of 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ny have no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dshifted lines  also cover most of rest of spectru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specially at m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457920" y="3276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ootnote 5.149 – Care but no commit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Content Placeholder 4" descr="fn5.149.tiff"/>
          <p:cNvPicPr/>
          <p:nvPr/>
        </p:nvPicPr>
        <p:blipFill>
          <a:blip r:embed="rId1"/>
          <a:srcRect l="0" t="-2069" r="0" b="-2069"/>
          <a:stretch/>
        </p:blipFill>
        <p:spPr>
          <a:xfrm>
            <a:off x="685800" y="1106640"/>
            <a:ext cx="776124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ootnote 5.565 – above 275 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4723920"/>
            <a:ext cx="78375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Revision in WRC-2012 – Agenda item 1.6 – no allocations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Also cover 1-3 THz – New Recommendation RA.1860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Above 3 THz – New area for ITU – IR/Optica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253" name="Picture 7" descr="fn5.565.tiff"/>
          <p:cNvPicPr/>
          <p:nvPr/>
        </p:nvPicPr>
        <p:blipFill>
          <a:blip r:embed="rId1"/>
          <a:stretch/>
        </p:blipFill>
        <p:spPr>
          <a:xfrm>
            <a:off x="0" y="1143000"/>
            <a:ext cx="9034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03400" y="81000"/>
            <a:ext cx="788832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ational A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Content Placeholder 4" descr="Oz_5GHz.tiff"/>
          <p:cNvPicPr/>
          <p:nvPr/>
        </p:nvPicPr>
        <p:blipFill>
          <a:blip r:embed="rId1"/>
          <a:srcRect l="-15445" t="0" r="-15445" b="0"/>
          <a:stretch/>
        </p:blipFill>
        <p:spPr>
          <a:xfrm>
            <a:off x="304920" y="851040"/>
            <a:ext cx="896148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03040" y="1386000"/>
            <a:ext cx="73436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Allocations Table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RAS Allocations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Footnote 5.340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Footnote 5.149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Telescope use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Wide-band receivers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SKA 70 MHz – 25 GHz !!   - RQZ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ootnote AUS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Content Placeholder 4" descr="aus87.tiff"/>
          <p:cNvPicPr/>
          <p:nvPr/>
        </p:nvPicPr>
        <p:blipFill>
          <a:blip r:embed="rId1"/>
          <a:srcRect l="-4389" t="0" r="-4389" b="0"/>
          <a:stretch/>
        </p:blipFill>
        <p:spPr>
          <a:xfrm>
            <a:off x="1103400" y="1386000"/>
            <a:ext cx="734364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llocations and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03040" y="1386000"/>
            <a:ext cx="73436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Allocations do not automatically mean protection!!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dicate permitted usage but more is needed in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National allocations and licensing very important!!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.g. in Australia – have to take “Receive licens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mall fees but  listed in national databa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gal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87 provisions of “notification zon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3880" indent="-176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work well in practice – co-operative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3880" indent="-176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nt example for Methanol lat 6.7 GHz &amp; Trans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National sovereignty jealously guarded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an go against international alloca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3880" indent="-176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ovided no impact on neighbouring n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3880" indent="-176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Radio quiet zones easiest in National context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TU Registration of RAS telesc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99cc"/>
                </a:solidFill>
                <a:latin typeface="Arial"/>
              </a:rPr>
              <a:t>Only via National administration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99cc"/>
                </a:solidFill>
                <a:latin typeface="Arial"/>
              </a:rPr>
              <a:t>Include in ITU Master Frequency Register (MFR)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99cc"/>
                </a:solidFill>
                <a:latin typeface="Arial"/>
              </a:rPr>
              <a:t>Only accepts registration in allocated bands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99cc"/>
                </a:solidFill>
                <a:latin typeface="Arial"/>
              </a:rPr>
              <a:t>Can register national allocations outside RA bands under Article 4.4 (no interference; no protection) 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Important for increased visibility of RAS</a:t>
            </a: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066680" y="2666520"/>
            <a:ext cx="743112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99cc"/>
                </a:solidFill>
                <a:latin typeface="Arial"/>
              </a:rPr>
              <a:t>Band usage by actual radio-telescopes</a:t>
            </a:r>
            <a:endParaRPr b="0" lang="en-US" sz="4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03040" y="80640"/>
            <a:ext cx="804060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VLA Bands – 1.2-50 GHz continuous coverag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Content Placeholder 4" descr="evla_bands.tiff"/>
          <p:cNvPicPr/>
          <p:nvPr/>
        </p:nvPicPr>
        <p:blipFill>
          <a:blip r:embed="rId1"/>
          <a:srcRect l="0" t="-2560" r="0" b="-2560"/>
          <a:stretch/>
        </p:blipFill>
        <p:spPr>
          <a:xfrm>
            <a:off x="1103400" y="1386000"/>
            <a:ext cx="734364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03400" y="80640"/>
            <a:ext cx="735480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TCA band usage – most of 1-100 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Content Placeholder 5" descr="atca_bands.tiff"/>
          <p:cNvPicPr/>
          <p:nvPr/>
        </p:nvPicPr>
        <p:blipFill>
          <a:blip r:embed="rId1"/>
          <a:srcRect l="-30803" t="0" r="-30803" b="0"/>
          <a:stretch/>
        </p:blipFill>
        <p:spPr>
          <a:xfrm>
            <a:off x="-54000" y="609480"/>
            <a:ext cx="919800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03400" y="81000"/>
            <a:ext cx="743112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arkes Rece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Content Placeholder 4" descr="Parkes_bands.tiff"/>
          <p:cNvPicPr/>
          <p:nvPr/>
        </p:nvPicPr>
        <p:blipFill>
          <a:blip r:embed="rId1"/>
          <a:srcRect l="-18339" t="0" r="-18339" b="0"/>
          <a:stretch/>
        </p:blipFill>
        <p:spPr>
          <a:xfrm>
            <a:off x="685800" y="838080"/>
            <a:ext cx="86868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65972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BT B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Content Placeholder 4" descr="GBT_bands.tiff"/>
          <p:cNvPicPr/>
          <p:nvPr/>
        </p:nvPicPr>
        <p:blipFill>
          <a:blip r:embed="rId1"/>
          <a:srcRect l="0" t="-1963" r="0" b="-1963"/>
          <a:stretch/>
        </p:blipFill>
        <p:spPr>
          <a:xfrm>
            <a:off x="173160" y="762120"/>
            <a:ext cx="897084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5280" y="-449280"/>
            <a:ext cx="73440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ffelsberg B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Content Placeholder 3" descr="effelsberg_bands.tiff"/>
          <p:cNvPicPr/>
          <p:nvPr/>
        </p:nvPicPr>
        <p:blipFill>
          <a:blip r:embed="rId1"/>
          <a:srcRect l="-26837" t="0" r="-26837" b="0"/>
          <a:stretch/>
        </p:blipFill>
        <p:spPr>
          <a:xfrm>
            <a:off x="-168120" y="533520"/>
            <a:ext cx="9464400" cy="63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MRT B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Content Placeholder 4" descr="GMRT_bands.tiff"/>
          <p:cNvPicPr/>
          <p:nvPr/>
        </p:nvPicPr>
        <p:blipFill>
          <a:blip r:embed="rId1"/>
          <a:srcRect l="0" t="-28759" r="0" b="-28759"/>
          <a:stretch/>
        </p:blipFill>
        <p:spPr>
          <a:xfrm>
            <a:off x="1103400" y="1386000"/>
            <a:ext cx="79358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03040" y="1386000"/>
            <a:ext cx="73436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Radio Regulations Volume 1   - ITU-R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Radio Astronomy Handbook  - ITU-R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ackground and summ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b5056"/>
                </a:solidFill>
                <a:uFillTx/>
                <a:latin typeface="Arial"/>
                <a:hlinkClick r:id="rId1"/>
              </a:rPr>
              <a:t>CRAF Handbook for Frequency Management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b5056"/>
                </a:solidFill>
                <a:uFillTx/>
                <a:latin typeface="Arial"/>
                <a:hlinkClick r:id="rId2"/>
              </a:rPr>
              <a:t>CRAF Handbook for Radio Astronomy (3rd edition)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ree online at http://www.craf.eu/pub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CORF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Handbook of Frequency Allocations and Spectrum Protection for Scientific Uses 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vailable free online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ap.edu/catalog.php?record_id=117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LMA b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Content Placeholder 3" descr="alma_bands.tiff"/>
          <p:cNvPicPr/>
          <p:nvPr/>
        </p:nvPicPr>
        <p:blipFill>
          <a:blip r:embed="rId1"/>
          <a:srcRect l="0" t="-25945" r="0" b="-25945"/>
          <a:stretch/>
        </p:blipFill>
        <p:spPr>
          <a:xfrm>
            <a:off x="0" y="326880"/>
            <a:ext cx="8923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nds used for RA (VLB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Content Placeholder 4" descr="vlbi_bands.tiff"/>
          <p:cNvPicPr/>
          <p:nvPr/>
        </p:nvPicPr>
        <p:blipFill>
          <a:blip r:embed="rId1"/>
          <a:srcRect l="-7597" t="0" r="-7597" b="0"/>
          <a:stretch/>
        </p:blipFill>
        <p:spPr>
          <a:xfrm>
            <a:off x="1103400" y="1386000"/>
            <a:ext cx="734364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ummary of band usage by RA telesc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380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Increasing cover full spectrum !!!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VLA: 1-50 GHz continuous;  ATCA: most of 1-100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KA: 70 MHz – 25 GHz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MA:  100-1000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Allocated bands covered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ut only a very small part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s it worth keeping them!!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YES – Reasons: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slands” for deep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r bands built around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itical RFI free bands for calib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Keeps RAS visible in ITU-R and international f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Use of remote and radio-quiet zones – SKA; ALMA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RFI mitigation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53820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-4680"/>
            <a:ext cx="9144000" cy="6849720"/>
            <a:chOff x="0" y="-4680"/>
            <a:chExt cx="9144000" cy="6849720"/>
          </a:xfrm>
        </p:grpSpPr>
        <p:pic>
          <p:nvPicPr>
            <p:cNvPr id="283" name="Picture 3" descr="title_slide_070615_baronly"/>
            <p:cNvPicPr/>
            <p:nvPr/>
          </p:nvPicPr>
          <p:blipFill>
            <a:blip r:embed="rId1"/>
            <a:srcRect l="0" t="12152" r="9891" b="0"/>
            <a:stretch/>
          </p:blipFill>
          <p:spPr>
            <a:xfrm>
              <a:off x="0" y="3789360"/>
              <a:ext cx="9144000" cy="160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4" name="Group 4"/>
            <p:cNvGrpSpPr/>
            <p:nvPr/>
          </p:nvGrpSpPr>
          <p:grpSpPr>
            <a:xfrm>
              <a:off x="362880" y="-4680"/>
              <a:ext cx="983880" cy="6849720"/>
              <a:chOff x="362880" y="-4680"/>
              <a:chExt cx="983880" cy="6849720"/>
            </a:xfrm>
          </p:grpSpPr>
          <p:sp>
            <p:nvSpPr>
              <p:cNvPr id="285" name="Line 5"/>
              <p:cNvSpPr/>
              <p:nvPr/>
            </p:nvSpPr>
            <p:spPr>
              <a:xfrm flipH="1">
                <a:off x="747000" y="-4680"/>
                <a:ext cx="599760" cy="684828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6"/>
              <p:cNvSpPr/>
              <p:nvPr/>
            </p:nvSpPr>
            <p:spPr>
              <a:xfrm flipH="1">
                <a:off x="617040" y="-4680"/>
                <a:ext cx="599760" cy="684828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7"/>
              <p:cNvSpPr/>
              <p:nvPr/>
            </p:nvSpPr>
            <p:spPr>
              <a:xfrm flipH="1">
                <a:off x="680040" y="-2880"/>
                <a:ext cx="599400" cy="684792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8"/>
              <p:cNvSpPr/>
              <p:nvPr/>
            </p:nvSpPr>
            <p:spPr>
              <a:xfrm flipH="1">
                <a:off x="552960" y="-2880"/>
                <a:ext cx="599400" cy="684792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Line 9"/>
              <p:cNvSpPr/>
              <p:nvPr/>
            </p:nvSpPr>
            <p:spPr>
              <a:xfrm flipH="1">
                <a:off x="423000" y="-2880"/>
                <a:ext cx="599400" cy="684792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10"/>
              <p:cNvSpPr/>
              <p:nvPr/>
            </p:nvSpPr>
            <p:spPr>
              <a:xfrm flipH="1">
                <a:off x="486720" y="-4680"/>
                <a:ext cx="599760" cy="684828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Line 11"/>
              <p:cNvSpPr/>
              <p:nvPr/>
            </p:nvSpPr>
            <p:spPr>
              <a:xfrm flipH="1">
                <a:off x="362880" y="-4680"/>
                <a:ext cx="599760" cy="6848280"/>
              </a:xfrm>
              <a:prstGeom prst="line">
                <a:avLst/>
              </a:prstGeom>
              <a:ln w="64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2"/>
            <p:cNvSpPr/>
            <p:nvPr/>
          </p:nvSpPr>
          <p:spPr>
            <a:xfrm>
              <a:off x="1338120" y="5845320"/>
              <a:ext cx="633564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500" spc="-1" strike="noStrike">
                  <a:solidFill>
                    <a:srgbClr val="0099cc"/>
                  </a:solidFill>
                  <a:latin typeface="Times New Roman"/>
                </a:rPr>
                <a:t>Contact 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Times New Roman"/>
                </a:rPr>
                <a:t>Phone: 1300 363 400 or +61 3 9545 217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Times New Roman"/>
                </a:rPr>
                <a:t>Email: enquiries@csiro.au  Web: www.csiro.a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Picture 13" descr="20070618_csiro7024"/>
            <p:cNvPicPr/>
            <p:nvPr/>
          </p:nvPicPr>
          <p:blipFill>
            <a:blip r:embed="rId2"/>
            <a:stretch/>
          </p:blipFill>
          <p:spPr>
            <a:xfrm>
              <a:off x="8007120" y="5815080"/>
              <a:ext cx="666720" cy="79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49200" y="1568160"/>
            <a:ext cx="3144960" cy="166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br>
              <a:rPr sz="3200"/>
            </a:b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1415880" y="3809880"/>
            <a:ext cx="5607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Tasso Tziou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Tasso.tzioumis@csiro.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17" descr="radioquiet5"/>
          <p:cNvPicPr/>
          <p:nvPr/>
        </p:nvPicPr>
        <p:blipFill>
          <a:blip r:embed="rId3"/>
          <a:srcRect l="12392" t="10328" r="3863" b="13222"/>
          <a:stretch/>
        </p:blipFill>
        <p:spPr>
          <a:xfrm>
            <a:off x="4029120" y="835200"/>
            <a:ext cx="499104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TU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Content Placeholder 3" descr="itu-regions.tiff"/>
          <p:cNvPicPr/>
          <p:nvPr/>
        </p:nvPicPr>
        <p:blipFill>
          <a:blip r:embed="rId1"/>
          <a:srcRect l="0" t="-8107" r="0" b="-8107"/>
          <a:stretch/>
        </p:blipFill>
        <p:spPr>
          <a:xfrm>
            <a:off x="1103400" y="1386000"/>
            <a:ext cx="734364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llocations Table    -  Article 5  -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0880" y="6095520"/>
            <a:ext cx="810576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-primary allocations; Adjacent bands; OoB emissions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74" name="Picture 6" descr="allocation1400.tiff"/>
          <p:cNvPicPr/>
          <p:nvPr/>
        </p:nvPicPr>
        <p:blipFill>
          <a:blip r:embed="rId1"/>
          <a:stretch/>
        </p:blipFill>
        <p:spPr>
          <a:xfrm>
            <a:off x="0" y="990720"/>
            <a:ext cx="7475400" cy="51051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7"/>
          <p:cNvSpPr/>
          <p:nvPr/>
        </p:nvSpPr>
        <p:spPr>
          <a:xfrm>
            <a:off x="4114800" y="4267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AU" sz="1800" spc="-1" strike="noStrike">
                <a:solidFill>
                  <a:srgbClr val="ff0000"/>
                </a:solidFill>
                <a:latin typeface="Times New Roman"/>
              </a:rPr>
              <a:t>Primary RAS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3429000" y="4724280"/>
            <a:ext cx="38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0000"/>
                </a:solidFill>
                <a:latin typeface="Times New Roman"/>
              </a:rPr>
              <a:t>Footnotes relevant to 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1905120" y="33526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Times New Roman"/>
              </a:rPr>
              <a:t>RAS footn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are the RA band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34364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99cc"/>
                </a:solidFill>
                <a:latin typeface="Arial"/>
              </a:rPr>
              <a:t>SUMMARY TABLE: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04920" y="1752480"/>
          <a:ext cx="8686800" cy="5105520"/>
        </p:xfrm>
        <a:graphic>
          <a:graphicData uri="http://schemas.openxmlformats.org/drawingml/2006/table">
            <a:tbl>
              <a:tblPr/>
              <a:tblGrid>
                <a:gridCol w="4267080"/>
                <a:gridCol w="441972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Bands(MH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Bands(GH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60 - 13.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550 - 25.6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5 - 38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 - 7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.05 - 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 - 32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.1 - 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8 - 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400 - 1 427 (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10.6 - 1 613.8 (O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660 - 1 670 (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655 - 2 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 800 - 5 000 (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GB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6 - 1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47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4.50 (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GB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)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5 - 15.4</a:t>
                      </a: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21- 22.50 (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GB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6 - 24.0 (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1" lang="en-GB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3</a:t>
                      </a: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31.8</a:t>
                      </a: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5</a:t>
                      </a: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43.5 (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</a:t>
                      </a: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67</a:t>
                      </a: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231.5</a:t>
                      </a: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</a:t>
                      </a: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0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tails of RAS Allocations – from RAS Handboo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09480" y="609480"/>
          <a:ext cx="7162920" cy="6248520"/>
        </p:xfrm>
        <a:graphic>
          <a:graphicData uri="http://schemas.openxmlformats.org/drawingml/2006/table">
            <a:tbl>
              <a:tblPr/>
              <a:tblGrid>
                <a:gridCol w="2387880"/>
                <a:gridCol w="2387520"/>
                <a:gridCol w="238752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equency rang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MHz)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(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tus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(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(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6-13.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55-25.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50-38.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.00-74.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.05-153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 1, Australia, In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.00-328.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uterium 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.10-41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6.00-608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 and the African broadcasting a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8.00-614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 2, India, China and the African broadcasting area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s 1 (except the African broadcasting area) and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.00-1</a:t>
                      </a:r>
                      <a:r>
                        <a:rPr b="0" lang="fr-FR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7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ogen 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.00-1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.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 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0.00-1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 l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8.80-1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2.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 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.00-2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0.00-2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fr-FR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.00-4</a:t>
                      </a:r>
                      <a:r>
                        <a:rPr b="0" lang="fr-FR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 line; 4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5-4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 MHz and 4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0-4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0 MHz are primary in Argentina, Australia and Can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0.00-5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5280" y="0"/>
          <a:ext cx="7344000" cy="6807240"/>
        </p:xfrm>
        <a:graphic>
          <a:graphicData uri="http://schemas.openxmlformats.org/drawingml/2006/table">
            <a:tbl>
              <a:tblPr/>
              <a:tblGrid>
                <a:gridCol w="2448000"/>
                <a:gridCol w="2448000"/>
                <a:gridCol w="2448000"/>
              </a:tblGrid>
              <a:tr h="50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equency rang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GHz)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(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CH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tus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1" lang="fr-CH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(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(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CH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60-10.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CH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68-10.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47-14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 l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5-15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21-22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l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60-24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30-31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50-31.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ive in Region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50-43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 l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94-49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lin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00-77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.50-79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00-8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00-9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 l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00-94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.00-94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.10-10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03040" y="81000"/>
            <a:ext cx="7343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43000" y="0"/>
          <a:ext cx="7391520" cy="6400800"/>
        </p:xfrm>
        <a:graphic>
          <a:graphicData uri="http://schemas.openxmlformats.org/drawingml/2006/table">
            <a:tbl>
              <a:tblPr/>
              <a:tblGrid>
                <a:gridCol w="2463840"/>
                <a:gridCol w="2463840"/>
                <a:gridCol w="2463840"/>
              </a:tblGrid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.00-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.00-109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50-111.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 l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.80-114.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 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25-11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 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.00-13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.00-134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.00-13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.00-148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.50-151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.50-158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.00-167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.00-185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.00-209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.00-22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 l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.00-231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 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00-248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l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.00-25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-25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(P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.00-275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187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179280"/>
                          <a:tab algn="l" pos="539640"/>
                          <a:tab algn="l" pos="900000"/>
                          <a:tab algn="l" pos="1260360"/>
                          <a:tab algn="l" pos="1619280"/>
                          <a:tab algn="l" pos="1979640"/>
                          <a:tab algn="l" pos="2340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N, HCO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7:50:28Z</dcterms:created>
  <dc:creator>Anastasios Tzioumis</dc:creator>
  <dc:description/>
  <cp:keywords/>
  <dc:language>en-US</dc:language>
  <cp:lastModifiedBy>Tasso Tzioumis</cp:lastModifiedBy>
  <dcterms:modified xsi:type="dcterms:W3CDTF">2010-05-31T00:47:03Z</dcterms:modified>
  <cp:revision>65</cp:revision>
  <dc:subject/>
  <dc:title>Radio Astronomy and Radio Telescopes</dc:title>
</cp:coreProperties>
</file>