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12.wmf" ContentType="image/x-wmf"/>
  <Override PartName="/ppt/media/image7.wmf" ContentType="image/x-wmf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013575" cy="9299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DC7-B987-4B2A-8489-BED1EBC7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758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61720" y="4073760"/>
            <a:ext cx="758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360-B2A5-4194-BF5A-449871AF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6840" y="192420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61720" y="407376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6840" y="407376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6B2-57CA-4B2F-A3FC-DF41C669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5280" y="192420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8840" y="192420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61720" y="407376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5280" y="407376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8840" y="407376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2D0-C1E7-4AFB-BBE2-3EC677BF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61720" y="192420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2DC-614D-498E-A2F3-71853A97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CB0-D680-4E09-9737-73C4611E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6840" y="192420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9BA-2DFD-4C29-8FF7-9FE1E7AE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BA3-47C8-4A5C-A056-EF075273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36144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D73-6149-45BE-BC28-0E92BE2D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6840" y="192420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61720" y="407376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F7B-D627-45FA-9B8B-43A77B3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6840" y="192420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6840" y="407376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252-9A23-4DC5-BEC2-47B1B02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6840" y="192420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61720" y="4073760"/>
            <a:ext cx="758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6A0-BCC3-4CB0-9B47-90484EE2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41936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066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212E-F53C-4F61-A5F4-DFA20DA3F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61720" y="192420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77840" y="76320"/>
            <a:ext cx="609480" cy="6705360"/>
          </a:xfrm>
          <a:prstGeom prst="rect">
            <a:avLst/>
          </a:prstGeom>
          <a:gradFill rotWithShape="0">
            <a:gsLst>
              <a:gs pos="0">
                <a:srgbClr val="021348"/>
              </a:gs>
              <a:gs pos="100000">
                <a:srgbClr val="0640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rot="16200000">
            <a:off x="-1828080" y="206460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Science Found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81080" y="6170760"/>
            <a:ext cx="600120" cy="60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BB91-0EB0-46FF-AD94-A791B1A3F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 flipV="1">
            <a:off x="1828800" y="281916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219320" y="3200400"/>
            <a:ext cx="746748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Andrew CLEGG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U.S. National Science Foundation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aclegg@nsf.gov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IUCAF Summer School 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trum Management for Radio Astronom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yo, Japan – June 1, 2010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 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447920" y="7621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F Dialect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derstanding Each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ther’s Technical Ling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8957-ABA9-4C6A-B9AD-4AAD59B74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61800"/>
            <a:ext cx="775332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y into dBm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sumption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GSM bandwidth (~200 kHz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1.8 GHz frequency (</a:t>
            </a: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.17 m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otropic receive antenna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collecting area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4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0.0022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w much is a Jy worth in dBm?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ffffff"/>
                </a:solidFill>
                <a:latin typeface="Arial"/>
              </a:rPr>
              <a:t>mW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= 10</a:t>
            </a:r>
            <a:r>
              <a:rPr b="1" lang="en-US" sz="2500" spc="-1" strike="noStrike" baseline="30000">
                <a:solidFill>
                  <a:srgbClr val="ffffff"/>
                </a:solidFill>
                <a:latin typeface="Arial"/>
              </a:rPr>
              <a:t>-26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/Hz </a:t>
            </a: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00,000 Hz </a:t>
            </a: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0.0022 m</a:t>
            </a:r>
            <a:r>
              <a:rPr b="1" lang="en-US" sz="25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1000 mW/W </a:t>
            </a:r>
            <a:r>
              <a:rPr b="1" lang="en-US" sz="2500" spc="-1" strike="noStrike">
                <a:solidFill>
                  <a:srgbClr val="66ff33"/>
                </a:solidFill>
                <a:latin typeface="Arial"/>
                <a:ea typeface="Times New Roman"/>
              </a:rPr>
              <a:t>= 4.4</a:t>
            </a:r>
            <a:r>
              <a:rPr b="1" lang="en-US" sz="2500" spc="-1" strike="noStrike">
                <a:solidFill>
                  <a:srgbClr val="66ff33"/>
                </a:solidFill>
                <a:latin typeface="Symbol"/>
                <a:ea typeface="Symbol"/>
              </a:rPr>
              <a:t></a:t>
            </a:r>
            <a:r>
              <a:rPr b="1" lang="en-US" sz="2500" spc="-1" strike="noStrike">
                <a:solidFill>
                  <a:srgbClr val="66ff33"/>
                </a:solidFill>
                <a:latin typeface="Arial"/>
                <a:ea typeface="Times New Roman"/>
              </a:rPr>
              <a:t>10</a:t>
            </a:r>
            <a:r>
              <a:rPr b="1" lang="en-US" sz="2500" spc="-1" strike="noStrike" baseline="30000">
                <a:solidFill>
                  <a:srgbClr val="66ff33"/>
                </a:solidFill>
                <a:latin typeface="Arial"/>
                <a:ea typeface="Times New Roman"/>
              </a:rPr>
              <a:t>-21</a:t>
            </a:r>
            <a:r>
              <a:rPr b="1" lang="en-US" sz="2500" spc="-1" strike="noStrike">
                <a:solidFill>
                  <a:srgbClr val="66ff33"/>
                </a:solidFill>
                <a:latin typeface="Arial"/>
                <a:ea typeface="Times New Roman"/>
              </a:rPr>
              <a:t> mW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lang="en-US" sz="25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dBm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= 10 log (4.4</a:t>
            </a: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10</a:t>
            </a:r>
            <a:r>
              <a:rPr b="1" lang="en-US" sz="25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21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mW) </a:t>
            </a:r>
            <a:r>
              <a:rPr b="1" lang="en-US" sz="2500" spc="-1" strike="noStrike">
                <a:solidFill>
                  <a:srgbClr val="66ff33"/>
                </a:solidFill>
                <a:latin typeface="Arial"/>
                <a:ea typeface="Times New Roman"/>
              </a:rPr>
              <a:t>= </a:t>
            </a:r>
            <a:r>
              <a:rPr b="1" lang="en-US" sz="2500" spc="-1" strike="noStrike">
                <a:solidFill>
                  <a:srgbClr val="66ff33"/>
                </a:solidFill>
                <a:latin typeface="Arial"/>
                <a:ea typeface="Arial"/>
              </a:rPr>
              <a:t>–</a:t>
            </a:r>
            <a:r>
              <a:rPr b="1" lang="en-US" sz="2500" spc="-1" strike="noStrike">
                <a:solidFill>
                  <a:srgbClr val="66ff33"/>
                </a:solidFill>
                <a:latin typeface="Arial"/>
                <a:ea typeface="Times New Roman"/>
              </a:rPr>
              <a:t>204 dBm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adio astronomy observations can achieve microjansky sensitivity, corresponding to signal levels (under the same assumptions) of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Times New Roman"/>
              </a:rPr>
              <a:t>–264 dBm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BBDB-6610-4F60-BE14-51B4928E2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y into dBm: Putting it into Contex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61720" y="1676520"/>
            <a:ext cx="75819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eference GSM handset receiver sensitivity is –111 dBm (minimum reported signal strength; service is not available at this power level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1 Jy signal strength (~-204 dBm) is therefore some 93 dB below the GSM reference receiver sensitivity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y is a whopping 153 dB below the GSM handset reference sensitivity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828800" y="4800600"/>
            <a:ext cx="6172200" cy="1191240"/>
          </a:xfrm>
          <a:prstGeom prst="rect">
            <a:avLst/>
          </a:prstGeom>
          <a:noFill/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 radio telescope can be more than 15 orders of magnitude more sensitive than a GSM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BB7F-8D66-4F3C-BF6C-E9C9BDD5F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ther Units of Received Signal Strength: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/m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1720" y="1447560"/>
            <a:ext cx="758196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eived signal strengths for communications signals are sometimes specified in units of </a:t>
            </a:r>
            <a:r>
              <a:rPr b="1" lang="en-US" sz="20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V/m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dB(</a:t>
            </a:r>
            <a:r>
              <a:rPr b="1" lang="en-US" sz="20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V/m)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You will see 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/m used often in specifying limits on unlicensed emissions [for example in the U.S. FCC’s Unlicensed Devices (Part 15) rules] and in service area boundary emission limits (multiple FCC rule parts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s is simply a measure of the electric field amplitude (E)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hm’s Law can be used to convert the electric field amplitude into a power flux density (power per unit area):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(W/m</a:t>
            </a: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 = E</a:t>
            </a: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/Z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/2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= 377 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= the impedance of free spac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7A6-5D4F-438F-99EA-A2F23F367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B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/m to dBm Convers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143000" y="137160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der the assumption of an isotropic receiving antenna, conversion is just a matter of algebr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ich results in the following conversion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1380960" y="2295360"/>
            <a:ext cx="6762960" cy="1468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2743200" y="4572000"/>
            <a:ext cx="4724280" cy="1398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2209680" y="4495680"/>
            <a:ext cx="5639040" cy="990720"/>
          </a:xfrm>
          <a:prstGeom prst="rect">
            <a:avLst/>
          </a:prstGeom>
          <a:noFill/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5869800" y="24382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Ohm’s law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rsion Examp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FE7D-E5F7-44F7-ACC6-2DA667F24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143000" y="1371600"/>
            <a:ext cx="7620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Japan, the minimum required field strength for a digital TV protected service area is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0 dB(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/m). At a frequency of 600 MHz, this corresponds to a received power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(dBm) = -77.2 + 60 – 20log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600 MHz) = -73 dB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49CF-BF1C-4419-A45C-9657AF25B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enna Performanc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" name="Picture 5" descr="http://www.ce-mag.com/archive/02/Spring/Images/02CEARG32b.gif"/>
          <p:cNvPicPr/>
          <p:nvPr/>
        </p:nvPicPr>
        <p:blipFill>
          <a:blip r:embed="rId1"/>
          <a:stretch/>
        </p:blipFill>
        <p:spPr>
          <a:xfrm>
            <a:off x="2590920" y="2666880"/>
            <a:ext cx="45720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FFF-FF93-4D21-AD7D-88ACC9D7E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enna Performance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adio Astronom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61720" y="1523880"/>
            <a:ext cx="758196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adio astronomers are typically converting power flux density or spectral power flux density (both measures of power or spectral power density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er unit are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 into a noise-equivalent temperature</a:t>
            </a: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common expression of radio astronomy antenna performance is the rise in system temperature attributable to the collection of power in a single polarization from a source of total flux density of 1 Jy: </a:t>
            </a: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effective antenna collecting area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is a combination of the geometrical collecting area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if defined) and the aperture efficiency </a:t>
            </a:r>
            <a:r>
              <a:rPr b="1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76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900" spc="-1" strike="noStrike" baseline="-25000">
                <a:solidFill>
                  <a:srgbClr val="ffffff"/>
                </a:solidFill>
                <a:latin typeface="Arial"/>
              </a:rPr>
              <a:t>e = </a:t>
            </a:r>
            <a:r>
              <a:rPr b="1" i="1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1" lang="en-US" sz="19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9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2895480" y="3747960"/>
            <a:ext cx="36576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CDC0-288D-4D15-8644-009C61D33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enna Performance Example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beyama 45-m Telescope @ 24 GHz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61720" y="1752120"/>
            <a:ext cx="7581960" cy="428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d gain is ~0.36 K/Jy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ffective collecting area: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m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 = 2760 * 0.3 K/Jy = 994 m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eometrical collecting area: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45m/2)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= 1590 m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perture efficiency = 994/1590 = 63%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A34F-5D0A-4CAA-94A9-6CC1C85AA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enna Performance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ypical communications applications specify basic antenna performance by a different expression of antenna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a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Antenna Gain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: The amount by which the signal strength at the output of an antenna is increased (or decreased) relative to the signal strength that would be obtained at the output of a standard reference antenna, assuming maximum gain of the reference antenna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nna gain is normally direction-dependen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3C6A-5493-4A9D-8DBE-1B19F0220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mon Standard Reference Antenn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86200" y="1599840"/>
            <a:ext cx="4781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sotropic</a:t>
            </a: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int source” antenn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iform gain in all direc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fective collecting area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/4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heoretical only; not achievable in the real worl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lf-wave Dipole</a:t>
            </a: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wo thin conductors, each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/4 in length,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aid end-to-end,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the feed point in-between the two en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es a doughnut-shaped gain patter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ximum gain is </a:t>
            </a:r>
            <a:r>
              <a:rPr b="1" lang="en-US" sz="1600" spc="-1" strike="noStrike">
                <a:solidFill>
                  <a:srgbClr val="66ff33"/>
                </a:solidFill>
                <a:latin typeface="Arial"/>
                <a:ea typeface="Times New Roman"/>
              </a:rPr>
              <a:t>2.15 d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relative to the isotropic antenn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025800" cy="288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2809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855D-2A5B-459F-B44A-23DE38CDE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5332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dio Astronomers Speak a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que Vernacula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66680" y="3962520"/>
            <a:ext cx="365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We are receiving interference from your transmitter at a level of 10 jansky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Cell Phone Tower"/>
          <p:cNvPicPr/>
          <p:nvPr/>
        </p:nvPicPr>
        <p:blipFill>
          <a:blip r:embed="rId1"/>
          <a:stretch/>
        </p:blipFill>
        <p:spPr>
          <a:xfrm>
            <a:off x="6019920" y="1447920"/>
            <a:ext cx="198108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2860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H="1">
            <a:off x="4495680" y="2743200"/>
            <a:ext cx="990720" cy="42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34120" y="44956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the ^#$&amp; is a ‘jansky’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029" descr="http://solar.nro.nao.ac.jp/norp/html/gallery/norp.jpg"/>
          <p:cNvPicPr/>
          <p:nvPr/>
        </p:nvPicPr>
        <p:blipFill>
          <a:blip r:embed="rId2"/>
          <a:stretch/>
        </p:blipFill>
        <p:spPr>
          <a:xfrm>
            <a:off x="1219320" y="1523880"/>
            <a:ext cx="31240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7F7C-0BF6-4B56-966A-5E9ABD5EB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enna Performance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Gain in dBi and dB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61720" y="1923840"/>
            <a:ext cx="758196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Bi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Gain of an antenna relative to an isotropic antenna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B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Gain of an antenna relative to the maximum gain of a half-wave dipo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Gain in dBd = Gain in dBi – 2.15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gain in dB is specified, how do you know if it’s dBi or dBd?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You don’t! (It’s bad engineering to not specify dBi or dBd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C29A-FB4E-4CC7-90A6-6D249ABEF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enna Performance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ansl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61720" y="1523880"/>
            <a:ext cx="758196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inear gain of an antenna relative to an isotropic antenna is the ratio of the effective collecting area to the collecting area of an istropic antenna: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/ (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ing the expression for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previously shown, we fin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= 0.4 (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MHz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K/Jy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 in logarithmic units: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(dBi) = -4 + 20 log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MHz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) + 10 log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K/Jy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sely,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K/Jy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= 2.56 (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MHz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G(dBi)/10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2E2-2992-4623-94B6-35CC7F513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enna Performance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 Contex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llular Base Antenna @ 1800 MHz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 = 2.5 x 10</a:t>
            </a: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K/Jy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= 0.07 m</a:t>
            </a: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 = 15 dBi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beyama @ 24 GHz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 = 0.36 K/Jy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= 994 m</a:t>
            </a: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 = 79 dBi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cibo @ 1400 MHz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 = 11 K/Jy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= 30,360 m</a:t>
            </a: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 = 69 dBi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Cell Phone Tower"/>
          <p:cNvPicPr/>
          <p:nvPr/>
        </p:nvPicPr>
        <p:blipFill>
          <a:blip r:embed="rId1"/>
          <a:stretch/>
        </p:blipFill>
        <p:spPr>
          <a:xfrm>
            <a:off x="6705720" y="1523880"/>
            <a:ext cx="1066680" cy="1600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4" name="Picture 7" descr="http://www.naic.edu/public/images/wideaomd.jpg"/>
          <p:cNvPicPr/>
          <p:nvPr/>
        </p:nvPicPr>
        <p:blipFill>
          <a:blip r:embed="rId2"/>
          <a:stretch/>
        </p:blipFill>
        <p:spPr>
          <a:xfrm>
            <a:off x="4191120" y="5181480"/>
            <a:ext cx="1828800" cy="1301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5" name="Picture 1051" descr="http://www.nro.nao.ac.jp/~nro45mrt/pictures/photo/image/img05_1024.jpeg"/>
          <p:cNvPicPr/>
          <p:nvPr/>
        </p:nvPicPr>
        <p:blipFill>
          <a:blip r:embed="rId3"/>
          <a:stretch/>
        </p:blipFill>
        <p:spPr>
          <a:xfrm>
            <a:off x="4876920" y="3429000"/>
            <a:ext cx="1904760" cy="142884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90AF-7522-4125-99E6-4D1F5C9B8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ther RF Communications Terminolog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71E5-6B35-49DA-B3E9-E2C6C171E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eiver Noise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adio Astronom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telescope systems utilize cryogenically cooled electronics to reduce the noise injected by the system itself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ually the noise performance of radio astronomy systems is characterized by the system temperature (the amount of noise, expressed in K, added by the telescope electronics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3C08-38AA-44FE-9A52-846B8E956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753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eiver Noise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ommunications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ise Factor and Noise Fig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61720" y="1752480"/>
            <a:ext cx="75819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al electronic devices in a signal chain provide gain (or attenuation) which act on both the input signal and noise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hese devices add their own additional noise, resulting in an overall degradation of S/N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ise Factor: Quantifies the S/N degradation from the input to the output of a system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F = (S/N)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/ (S/N)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ise Figure = 10 log (F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DEE6-C041-4910-AC92-D045F42F2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61800"/>
            <a:ext cx="775332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ise Fact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61720" y="1980720"/>
            <a:ext cx="75819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G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S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G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N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+ N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y convention, N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noise equivalent to 290 K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N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N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29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290 K)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F = 1 + N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/(G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290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r cascaded devices: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F = F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+ (F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1)/G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+ (F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1)/(G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 + 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pare to the expression of system temperature degradation using cascaded components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/G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/(G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1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 + 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dio astronomy systems have very low N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and high G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so F is very close to unity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Noise factor (or noise figure) is not a particularly useful figure of merit for RA system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886200" y="1270080"/>
            <a:ext cx="1523880" cy="78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905120" y="142236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3276720" y="157464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172200" y="142236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5486400" y="1650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ntizing the Nois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2960" y="1600200"/>
            <a:ext cx="78152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ntizing the Nois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2960" y="1598760"/>
            <a:ext cx="77691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ntizing the Nois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2960" y="1598760"/>
            <a:ext cx="77691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ABD1-F76A-4E04-9250-74632F0D7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5332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ectrum Managers Need to Understand a Unique Vernacula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523880" y="40035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uh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2860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724280" y="432900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We are using +43 dBm into a 15 dBd slant-pol panel with 2 degree electrical downtil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Cell Phone Tower"/>
          <p:cNvPicPr/>
          <p:nvPr/>
        </p:nvPicPr>
        <p:blipFill>
          <a:blip r:embed="rId1"/>
          <a:stretch/>
        </p:blipFill>
        <p:spPr>
          <a:xfrm>
            <a:off x="6019920" y="1447920"/>
            <a:ext cx="1981080" cy="2971800"/>
          </a:xfrm>
          <a:prstGeom prst="rect">
            <a:avLst/>
          </a:prstGeom>
          <a:ln w="0">
            <a:noFill/>
          </a:ln>
        </p:spPr>
      </p:pic>
      <p:sp>
        <p:nvSpPr>
          <p:cNvPr id="62" name="Line 9"/>
          <p:cNvSpPr/>
          <p:nvPr/>
        </p:nvSpPr>
        <p:spPr>
          <a:xfrm flipH="1">
            <a:off x="4495680" y="2743200"/>
            <a:ext cx="990720" cy="42840"/>
          </a:xfrm>
          <a:prstGeom prst="line">
            <a:avLst/>
          </a:prstGeom>
          <a:ln w="57240">
            <a:solidFill>
              <a:srgbClr val="ffffff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29" descr="http://solar.nro.nao.ac.jp/norp/html/gallery/norp.jpg"/>
          <p:cNvPicPr/>
          <p:nvPr/>
        </p:nvPicPr>
        <p:blipFill>
          <a:blip r:embed="rId2"/>
          <a:stretch/>
        </p:blipFill>
        <p:spPr>
          <a:xfrm>
            <a:off x="1219320" y="1523880"/>
            <a:ext cx="31240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ntizing the Nois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2960" y="1598760"/>
            <a:ext cx="77691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ntizing the Nois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2960" y="1598760"/>
            <a:ext cx="77691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ntizing the Nois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2960" y="1598760"/>
            <a:ext cx="7769160" cy="348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79440" y="5192640"/>
            <a:ext cx="710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ercial world describes noise by its amplitude. Radio astronomers describe noise by the accuracy with which you can determine its amplitu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029-9ADF-4342-8169-80AEE0033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/N, C/I, C/(I+N), et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61720" y="1371240"/>
            <a:ext cx="767700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ile radio astronomers typically refer to signal-to-noise (S/N), communications systems will often refer to additional measures of desired-to-undesired signal power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/I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” stands for “Carrier”—the desired signa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” stands for “Interference”—the undesired co-channel signa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/I (although written as a linear ratio) is usually expressed in dB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ample: For a received carrier level of –70 dBm and a received level of co-channel interference of –81 dBm, the C/I ratio is +11 dB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13C0-EB22-4007-879F-832D28B60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/N, C/I, C/(I+N), et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758196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/(I+N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For systems that operate near the noise floor or that have very low levels of interference, the C/I ratio is sometimes replaced by the C/(I+N) ratio, where “N” stands for Noise (thermal noise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/(I+N) is a more complete description than C/I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9DC-BA9F-4DDF-AFA0-A7DBAB7CE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/(I+N) Examp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/(I+N) Example: For a received carrier power of –99 dBm, a received co-channel interference level of –108 dBm, and a thermal noise level within the receiver bandwidth of –115 dBm: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 = –99 dBm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+N = 10 log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-108/10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+ 10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-115/10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) = –107 dBm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/(I+N) = (–99dBm)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(–107dBm) = +8 dB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10A1-1EAB-4E0B-A57F-623B5399D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mit Pow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" name="Picture 4" descr="Microwave Communication Link"/>
          <p:cNvPicPr/>
          <p:nvPr/>
        </p:nvPicPr>
        <p:blipFill>
          <a:blip r:embed="rId1"/>
          <a:stretch/>
        </p:blipFill>
        <p:spPr>
          <a:xfrm>
            <a:off x="1905120" y="2362320"/>
            <a:ext cx="5638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D82E-52B9-46D2-83EB-232323D8D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nsmit Pow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1720" y="1600200"/>
            <a:ext cx="758196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output power of a transmitter is commonly expressed in dBm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+30 dBm = 1000 milliwatts = 1 wat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re are many things that happen to a signal after it leaves the transmitter and before it is radiated into free space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ome components of the system will produce losses to the transmitted power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ntennas may create power gain in desired direction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8F5D-7DCA-476D-863F-CA31D89C8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2"/>
          <p:cNvGrpSpPr/>
          <p:nvPr/>
        </p:nvGrpSpPr>
        <p:grpSpPr>
          <a:xfrm>
            <a:off x="6273720" y="2514240"/>
            <a:ext cx="1295640" cy="2438640"/>
            <a:chOff x="6273720" y="2514240"/>
            <a:chExt cx="1295640" cy="2438640"/>
          </a:xfrm>
        </p:grpSpPr>
        <p:sp>
          <p:nvSpPr>
            <p:cNvPr id="182" name="Line 3"/>
            <p:cNvSpPr/>
            <p:nvPr/>
          </p:nvSpPr>
          <p:spPr>
            <a:xfrm>
              <a:off x="6273720" y="4952880"/>
              <a:ext cx="129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4"/>
            <p:cNvSpPr/>
            <p:nvPr/>
          </p:nvSpPr>
          <p:spPr>
            <a:xfrm flipV="1">
              <a:off x="7562880" y="2514240"/>
              <a:ext cx="0" cy="243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Line 5"/>
          <p:cNvSpPr/>
          <p:nvPr/>
        </p:nvSpPr>
        <p:spPr>
          <a:xfrm>
            <a:off x="4343400" y="4952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2521080" y="5409720"/>
            <a:ext cx="1218960" cy="381600"/>
            <a:chOff x="2521080" y="5409720"/>
            <a:chExt cx="1218960" cy="381600"/>
          </a:xfrm>
        </p:grpSpPr>
        <p:sp>
          <p:nvSpPr>
            <p:cNvPr id="186" name="Line 7"/>
            <p:cNvSpPr/>
            <p:nvPr/>
          </p:nvSpPr>
          <p:spPr>
            <a:xfrm>
              <a:off x="2521080" y="5791320"/>
              <a:ext cx="121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3733920" y="54097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Line 9"/>
          <p:cNvSpPr/>
          <p:nvPr/>
        </p:nvSpPr>
        <p:spPr>
          <a:xfrm>
            <a:off x="2597040" y="4038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imple Transmitter Syste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ell Site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219320" y="358128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219320" y="533412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17484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bi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06736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band Fil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7257600" y="228564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V="1">
            <a:off x="7559640" y="2285640"/>
            <a:ext cx="2890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7238880" y="228600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21932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43 dB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DD14-CC94-4C4B-9E39-3835D14C3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23"/>
          <p:cNvGrpSpPr/>
          <p:nvPr/>
        </p:nvGrpSpPr>
        <p:grpSpPr>
          <a:xfrm>
            <a:off x="6273720" y="2514240"/>
            <a:ext cx="1295640" cy="2438640"/>
            <a:chOff x="6273720" y="2514240"/>
            <a:chExt cx="1295640" cy="2438640"/>
          </a:xfrm>
        </p:grpSpPr>
        <p:sp>
          <p:nvSpPr>
            <p:cNvPr id="201" name="Line 21"/>
            <p:cNvSpPr/>
            <p:nvPr/>
          </p:nvSpPr>
          <p:spPr>
            <a:xfrm>
              <a:off x="6273720" y="4952880"/>
              <a:ext cx="129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2"/>
            <p:cNvSpPr/>
            <p:nvPr/>
          </p:nvSpPr>
          <p:spPr>
            <a:xfrm flipV="1">
              <a:off x="7562880" y="2514240"/>
              <a:ext cx="0" cy="243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Line 20"/>
          <p:cNvSpPr/>
          <p:nvPr/>
        </p:nvSpPr>
        <p:spPr>
          <a:xfrm>
            <a:off x="4343400" y="4952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2521080" y="5409720"/>
            <a:ext cx="1218960" cy="381600"/>
            <a:chOff x="2521080" y="5409720"/>
            <a:chExt cx="1218960" cy="381600"/>
          </a:xfrm>
        </p:grpSpPr>
        <p:sp>
          <p:nvSpPr>
            <p:cNvPr id="205" name="Line 17"/>
            <p:cNvSpPr/>
            <p:nvPr/>
          </p:nvSpPr>
          <p:spPr>
            <a:xfrm>
              <a:off x="2521080" y="5791320"/>
              <a:ext cx="121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 flipV="1">
              <a:off x="3733920" y="54097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Line 14"/>
          <p:cNvSpPr/>
          <p:nvPr/>
        </p:nvSpPr>
        <p:spPr>
          <a:xfrm>
            <a:off x="2597040" y="4038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imple Transmitter Syste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ell Site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219320" y="358128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219320" y="533412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17484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bi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506736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band Fil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 flipV="1">
            <a:off x="7257600" y="228564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V="1">
            <a:off x="7559640" y="2285640"/>
            <a:ext cx="2890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7238880" y="228600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048120" y="1981080"/>
            <a:ext cx="2971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biner Los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t least 10 log N, where N is the number of signals comb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H="1">
            <a:off x="3962160" y="3429000"/>
            <a:ext cx="609480" cy="990720"/>
          </a:xfrm>
          <a:prstGeom prst="line">
            <a:avLst/>
          </a:prstGeom>
          <a:ln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121932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43 dB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EBEE-AD6B-44B8-B7D3-3A41C2E54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Bother Learning othe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F Languages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Astronomy is the “Leco” of RF languages, spoken by comparatively very few people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ccessful  coordination is much more likely to occur and much more easily accommodated when the parties involved understand each other’s lingo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’s less likely that our spectrum management brethren will bother learning radio astronomy lingo—we need to learn their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F99D-011C-4E09-AF66-A73F5D14E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2"/>
          <p:cNvGrpSpPr/>
          <p:nvPr/>
        </p:nvGrpSpPr>
        <p:grpSpPr>
          <a:xfrm>
            <a:off x="6273720" y="2514240"/>
            <a:ext cx="1295640" cy="2438640"/>
            <a:chOff x="6273720" y="2514240"/>
            <a:chExt cx="1295640" cy="2438640"/>
          </a:xfrm>
        </p:grpSpPr>
        <p:sp>
          <p:nvSpPr>
            <p:cNvPr id="222" name="Line 3"/>
            <p:cNvSpPr/>
            <p:nvPr/>
          </p:nvSpPr>
          <p:spPr>
            <a:xfrm>
              <a:off x="6273720" y="4952880"/>
              <a:ext cx="129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V="1">
              <a:off x="7562880" y="2514240"/>
              <a:ext cx="0" cy="243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Line 5"/>
          <p:cNvSpPr/>
          <p:nvPr/>
        </p:nvSpPr>
        <p:spPr>
          <a:xfrm>
            <a:off x="4343400" y="4952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2521080" y="5409720"/>
            <a:ext cx="1218960" cy="381600"/>
            <a:chOff x="2521080" y="5409720"/>
            <a:chExt cx="1218960" cy="381600"/>
          </a:xfrm>
        </p:grpSpPr>
        <p:sp>
          <p:nvSpPr>
            <p:cNvPr id="226" name="Line 7"/>
            <p:cNvSpPr/>
            <p:nvPr/>
          </p:nvSpPr>
          <p:spPr>
            <a:xfrm>
              <a:off x="2521080" y="5791320"/>
              <a:ext cx="121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"/>
            <p:cNvSpPr/>
            <p:nvPr/>
          </p:nvSpPr>
          <p:spPr>
            <a:xfrm flipV="1">
              <a:off x="3733920" y="54097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Line 9"/>
          <p:cNvSpPr/>
          <p:nvPr/>
        </p:nvSpPr>
        <p:spPr>
          <a:xfrm>
            <a:off x="2597040" y="4038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imple Transmitter Syste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ell Site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219320" y="358128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1219320" y="533412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17484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bi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506736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band Fil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 flipH="1" flipV="1">
            <a:off x="7257600" y="228564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 flipV="1">
            <a:off x="7559640" y="2285640"/>
            <a:ext cx="2890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7238880" y="228600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4114800" y="274320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sertion Los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~ 1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105520" y="3581280"/>
            <a:ext cx="533160" cy="838440"/>
          </a:xfrm>
          <a:prstGeom prst="line">
            <a:avLst/>
          </a:prstGeom>
          <a:ln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342900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3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121932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43 dB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F8A2-5B9E-4B15-A847-E3D120300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"/>
          <p:cNvGrpSpPr/>
          <p:nvPr/>
        </p:nvGrpSpPr>
        <p:grpSpPr>
          <a:xfrm>
            <a:off x="6273720" y="2514240"/>
            <a:ext cx="1295640" cy="2438640"/>
            <a:chOff x="6273720" y="2514240"/>
            <a:chExt cx="1295640" cy="2438640"/>
          </a:xfrm>
        </p:grpSpPr>
        <p:sp>
          <p:nvSpPr>
            <p:cNvPr id="244" name="Line 3"/>
            <p:cNvSpPr/>
            <p:nvPr/>
          </p:nvSpPr>
          <p:spPr>
            <a:xfrm>
              <a:off x="6273720" y="4952880"/>
              <a:ext cx="129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4"/>
            <p:cNvSpPr/>
            <p:nvPr/>
          </p:nvSpPr>
          <p:spPr>
            <a:xfrm flipV="1">
              <a:off x="7562880" y="2514240"/>
              <a:ext cx="0" cy="243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Line 5"/>
          <p:cNvSpPr/>
          <p:nvPr/>
        </p:nvSpPr>
        <p:spPr>
          <a:xfrm>
            <a:off x="4343400" y="4952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6"/>
          <p:cNvGrpSpPr/>
          <p:nvPr/>
        </p:nvGrpSpPr>
        <p:grpSpPr>
          <a:xfrm>
            <a:off x="2521080" y="5409720"/>
            <a:ext cx="1218960" cy="381600"/>
            <a:chOff x="2521080" y="5409720"/>
            <a:chExt cx="1218960" cy="381600"/>
          </a:xfrm>
        </p:grpSpPr>
        <p:sp>
          <p:nvSpPr>
            <p:cNvPr id="248" name="Line 7"/>
            <p:cNvSpPr/>
            <p:nvPr/>
          </p:nvSpPr>
          <p:spPr>
            <a:xfrm>
              <a:off x="2521080" y="5791320"/>
              <a:ext cx="121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8"/>
            <p:cNvSpPr/>
            <p:nvPr/>
          </p:nvSpPr>
          <p:spPr>
            <a:xfrm flipV="1">
              <a:off x="3733920" y="54097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Line 9"/>
          <p:cNvSpPr/>
          <p:nvPr/>
        </p:nvSpPr>
        <p:spPr>
          <a:xfrm>
            <a:off x="2597040" y="4038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imple Transmitter Syste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ell Site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1219320" y="358128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1219320" y="533412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7484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bi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06736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band Fil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 flipH="1" flipV="1">
            <a:off x="7257600" y="228564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 flipV="1">
            <a:off x="7559640" y="2285640"/>
            <a:ext cx="2890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7238880" y="228600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4495680" y="2133720"/>
            <a:ext cx="1524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ne Los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~ 2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>
            <a:off x="5486400" y="3200400"/>
            <a:ext cx="1981080" cy="1066680"/>
          </a:xfrm>
          <a:prstGeom prst="line">
            <a:avLst/>
          </a:prstGeom>
          <a:ln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342900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3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525780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1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23"/>
          <p:cNvSpPr/>
          <p:nvPr/>
        </p:nvSpPr>
        <p:spPr>
          <a:xfrm flipH="1">
            <a:off x="4648320" y="3200400"/>
            <a:ext cx="380880" cy="1600200"/>
          </a:xfrm>
          <a:prstGeom prst="line">
            <a:avLst/>
          </a:prstGeom>
          <a:ln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 flipH="1">
            <a:off x="3200400" y="2971800"/>
            <a:ext cx="1295280" cy="914400"/>
          </a:xfrm>
          <a:prstGeom prst="line">
            <a:avLst/>
          </a:prstGeom>
          <a:ln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121932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43 dB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7FF4-D74F-4E48-8917-58A8E3343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3074"/>
          <p:cNvGrpSpPr/>
          <p:nvPr/>
        </p:nvGrpSpPr>
        <p:grpSpPr>
          <a:xfrm>
            <a:off x="6273720" y="2514240"/>
            <a:ext cx="1295640" cy="2438640"/>
            <a:chOff x="6273720" y="2514240"/>
            <a:chExt cx="1295640" cy="2438640"/>
          </a:xfrm>
        </p:grpSpPr>
        <p:sp>
          <p:nvSpPr>
            <p:cNvPr id="269" name="Line 3075"/>
            <p:cNvSpPr/>
            <p:nvPr/>
          </p:nvSpPr>
          <p:spPr>
            <a:xfrm>
              <a:off x="6273720" y="4952880"/>
              <a:ext cx="129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3076"/>
            <p:cNvSpPr/>
            <p:nvPr/>
          </p:nvSpPr>
          <p:spPr>
            <a:xfrm flipV="1">
              <a:off x="7562880" y="2514240"/>
              <a:ext cx="0" cy="243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Line 3077"/>
          <p:cNvSpPr/>
          <p:nvPr/>
        </p:nvSpPr>
        <p:spPr>
          <a:xfrm>
            <a:off x="4343400" y="4952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3078"/>
          <p:cNvGrpSpPr/>
          <p:nvPr/>
        </p:nvGrpSpPr>
        <p:grpSpPr>
          <a:xfrm>
            <a:off x="2521080" y="5409720"/>
            <a:ext cx="1218960" cy="381600"/>
            <a:chOff x="2521080" y="5409720"/>
            <a:chExt cx="1218960" cy="381600"/>
          </a:xfrm>
        </p:grpSpPr>
        <p:sp>
          <p:nvSpPr>
            <p:cNvPr id="273" name="Line 3079"/>
            <p:cNvSpPr/>
            <p:nvPr/>
          </p:nvSpPr>
          <p:spPr>
            <a:xfrm>
              <a:off x="2521080" y="5791320"/>
              <a:ext cx="121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3080"/>
            <p:cNvSpPr/>
            <p:nvPr/>
          </p:nvSpPr>
          <p:spPr>
            <a:xfrm flipV="1">
              <a:off x="3733920" y="54097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Line 3081"/>
          <p:cNvSpPr/>
          <p:nvPr/>
        </p:nvSpPr>
        <p:spPr>
          <a:xfrm>
            <a:off x="2597040" y="4038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3082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imple Transmitter Syste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ell Site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Text Box 3084"/>
          <p:cNvSpPr/>
          <p:nvPr/>
        </p:nvSpPr>
        <p:spPr>
          <a:xfrm>
            <a:off x="1219320" y="358128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085"/>
          <p:cNvSpPr/>
          <p:nvPr/>
        </p:nvSpPr>
        <p:spPr>
          <a:xfrm>
            <a:off x="1219320" y="533412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3086"/>
          <p:cNvSpPr/>
          <p:nvPr/>
        </p:nvSpPr>
        <p:spPr>
          <a:xfrm>
            <a:off x="317484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bi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3087"/>
          <p:cNvSpPr/>
          <p:nvPr/>
        </p:nvSpPr>
        <p:spPr>
          <a:xfrm>
            <a:off x="506736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band Fil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088"/>
          <p:cNvSpPr/>
          <p:nvPr/>
        </p:nvSpPr>
        <p:spPr>
          <a:xfrm flipH="1" flipV="1">
            <a:off x="7257600" y="228564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089"/>
          <p:cNvSpPr/>
          <p:nvPr/>
        </p:nvSpPr>
        <p:spPr>
          <a:xfrm flipV="1">
            <a:off x="7559640" y="2285640"/>
            <a:ext cx="2890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3090"/>
          <p:cNvSpPr/>
          <p:nvPr/>
        </p:nvSpPr>
        <p:spPr>
          <a:xfrm>
            <a:off x="7238880" y="228600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091"/>
          <p:cNvSpPr/>
          <p:nvPr/>
        </p:nvSpPr>
        <p:spPr>
          <a:xfrm>
            <a:off x="4495680" y="2133720"/>
            <a:ext cx="1524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tenna 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~ +15 dB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092"/>
          <p:cNvSpPr/>
          <p:nvPr/>
        </p:nvSpPr>
        <p:spPr>
          <a:xfrm flipV="1">
            <a:off x="5791320" y="2286000"/>
            <a:ext cx="1676160" cy="457200"/>
          </a:xfrm>
          <a:prstGeom prst="line">
            <a:avLst/>
          </a:prstGeom>
          <a:ln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093"/>
          <p:cNvSpPr/>
          <p:nvPr/>
        </p:nvSpPr>
        <p:spPr>
          <a:xfrm>
            <a:off x="342900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3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094"/>
          <p:cNvSpPr/>
          <p:nvPr/>
        </p:nvSpPr>
        <p:spPr>
          <a:xfrm>
            <a:off x="525780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1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3097"/>
          <p:cNvSpPr/>
          <p:nvPr/>
        </p:nvSpPr>
        <p:spPr>
          <a:xfrm>
            <a:off x="6781680" y="5994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2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098"/>
          <p:cNvSpPr/>
          <p:nvPr/>
        </p:nvSpPr>
        <p:spPr>
          <a:xfrm>
            <a:off x="121932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43 dB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FBB8-8025-4C25-ABB6-DFAB57790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2"/>
          <p:cNvGrpSpPr/>
          <p:nvPr/>
        </p:nvGrpSpPr>
        <p:grpSpPr>
          <a:xfrm>
            <a:off x="6273720" y="2514240"/>
            <a:ext cx="1295640" cy="2438640"/>
            <a:chOff x="6273720" y="2514240"/>
            <a:chExt cx="1295640" cy="2438640"/>
          </a:xfrm>
        </p:grpSpPr>
        <p:sp>
          <p:nvSpPr>
            <p:cNvPr id="293" name="Line 3"/>
            <p:cNvSpPr/>
            <p:nvPr/>
          </p:nvSpPr>
          <p:spPr>
            <a:xfrm>
              <a:off x="6273720" y="4952880"/>
              <a:ext cx="129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4"/>
            <p:cNvSpPr/>
            <p:nvPr/>
          </p:nvSpPr>
          <p:spPr>
            <a:xfrm flipV="1">
              <a:off x="7562880" y="2514240"/>
              <a:ext cx="0" cy="243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Line 5"/>
          <p:cNvSpPr/>
          <p:nvPr/>
        </p:nvSpPr>
        <p:spPr>
          <a:xfrm>
            <a:off x="4343400" y="4952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6"/>
          <p:cNvGrpSpPr/>
          <p:nvPr/>
        </p:nvGrpSpPr>
        <p:grpSpPr>
          <a:xfrm>
            <a:off x="2521080" y="5409720"/>
            <a:ext cx="1218960" cy="381600"/>
            <a:chOff x="2521080" y="5409720"/>
            <a:chExt cx="1218960" cy="381600"/>
          </a:xfrm>
        </p:grpSpPr>
        <p:sp>
          <p:nvSpPr>
            <p:cNvPr id="297" name="Line 7"/>
            <p:cNvSpPr/>
            <p:nvPr/>
          </p:nvSpPr>
          <p:spPr>
            <a:xfrm>
              <a:off x="2521080" y="5791320"/>
              <a:ext cx="1218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8"/>
            <p:cNvSpPr/>
            <p:nvPr/>
          </p:nvSpPr>
          <p:spPr>
            <a:xfrm flipV="1">
              <a:off x="3733920" y="54097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Line 9"/>
          <p:cNvSpPr/>
          <p:nvPr/>
        </p:nvSpPr>
        <p:spPr>
          <a:xfrm>
            <a:off x="2597040" y="4038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imple Transmitter Syste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ell Site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219320" y="358128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219320" y="5334120"/>
            <a:ext cx="13716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mitter #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317484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bi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5067360" y="4495680"/>
            <a:ext cx="12193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band Fil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6"/>
          <p:cNvSpPr/>
          <p:nvPr/>
        </p:nvSpPr>
        <p:spPr>
          <a:xfrm flipH="1" flipV="1">
            <a:off x="7257600" y="228564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17"/>
          <p:cNvSpPr/>
          <p:nvPr/>
        </p:nvSpPr>
        <p:spPr>
          <a:xfrm flipV="1">
            <a:off x="7559640" y="2285640"/>
            <a:ext cx="2890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8"/>
          <p:cNvSpPr/>
          <p:nvPr/>
        </p:nvSpPr>
        <p:spPr>
          <a:xfrm>
            <a:off x="7238880" y="228600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495680" y="2133720"/>
            <a:ext cx="15242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tal EIRP along boresigh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52 dBm =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58 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 flipV="1">
            <a:off x="5791320" y="2286000"/>
            <a:ext cx="1676160" cy="457200"/>
          </a:xfrm>
          <a:prstGeom prst="line">
            <a:avLst/>
          </a:prstGeom>
          <a:ln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342900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3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525780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1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3"/>
          <p:cNvSpPr/>
          <p:nvPr/>
        </p:nvSpPr>
        <p:spPr>
          <a:xfrm>
            <a:off x="6781680" y="5994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2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121932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43 dB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7848720" y="2743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15 d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56CB-D3A4-4D78-BEFE-1E5052313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IRP &amp; ER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61720" y="1447920"/>
            <a:ext cx="75819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 antenna provides gain in some direction(s) at the expense of power transmitted in other directions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IRP: Effective Isotropic Radiated Power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he amount of power that would have to be applied to an isotropic antenna to equal the amount of power that is being transmitted in a particular direction by the actual antenna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RP: Effective Radiated Power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ame concept as EIRP, but reference antenna is the half-wave dipol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RP = EIRP – 2.15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h EIRP and ERP are direction dependent!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 assessing the potential for interference, the transmitted EIRP (or ERP) in the direction of the victim antenna must be known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o astronomers must learn the RF terminology commonly used by the rest of the engineering worl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o astronomers work in linear power units. Everyone else uses logarithmic unit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aracterization of “noise” in radio astronomy is different from the rest of the worl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9A4-E462-46DA-A310-DA20A9625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rminology…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92420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Bm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BW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/m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B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/m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RP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P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Bi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B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/I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0" name="Rectangle 1028"/>
          <p:cNvSpPr/>
          <p:nvPr/>
        </p:nvSpPr>
        <p:spPr>
          <a:xfrm>
            <a:off x="3962520" y="1955880"/>
            <a:ext cx="417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/(I+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ise Fig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ise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scaded Noise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ne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sertion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deal Isotropic Anten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ference Dipo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ther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2AFF-C704-4049-B05A-5BFE69398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ceived Signal Strength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" name="Picture 1051" descr="http://www.nro.nao.ac.jp/~nro45mrt/pictures/photo/image/img05_1024.jpeg"/>
          <p:cNvPicPr/>
          <p:nvPr/>
        </p:nvPicPr>
        <p:blipFill>
          <a:blip r:embed="rId1"/>
          <a:stretch/>
        </p:blipFill>
        <p:spPr>
          <a:xfrm>
            <a:off x="2209680" y="2362320"/>
            <a:ext cx="5257800" cy="394308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E0D6-9708-47F5-AA0F-2C0AEF149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eived Signal Strength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adio Astronom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61720" y="1447920"/>
            <a:ext cx="75819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jansky (Jy):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 Jy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-26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W/m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/Hz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e jansky is a measure of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spectral power flux density—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e amount of RF energy per unit time per unit area per unit bandwidt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jansky is not used outside of radio astronomy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t is not a practical unit for measuring communications signal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gnitude is much too sm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jansky is a linear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y few RF engineers outside of radio astronomy will know what a Jy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21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24E3-7506-43AF-9B18-352367A6B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eived Signal Strength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24080" y="1752480"/>
            <a:ext cx="5677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received signal strength of most communications signals is measured in power</a:t>
            </a:r>
            <a:endParaRPr b="1" lang="en-US" sz="18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e relevant bandwidth is fixed by the bandwidth of the desired signal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e relevant collecting area is fixed by the frequency of the desired signal and the gain of the receiving antenna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cause of the wide dynamic range encountered by most radio systems, the power is usually expressed in logarithmic units of watts (dBW) or milliwatts (dBm):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BW </a:t>
            </a:r>
            <a:r>
              <a:rPr b="1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10log</a:t>
            </a:r>
            <a:r>
              <a:rPr b="1" lang="en-US" sz="19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(Power in watts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Bm </a:t>
            </a:r>
            <a:r>
              <a:rPr b="1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10log</a:t>
            </a:r>
            <a:r>
              <a:rPr b="1" lang="en-US" sz="19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(Power in milliwatts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Microwave Communication Link"/>
          <p:cNvPicPr/>
          <p:nvPr/>
        </p:nvPicPr>
        <p:blipFill>
          <a:blip r:embed="rId1"/>
          <a:stretch/>
        </p:blipFill>
        <p:spPr>
          <a:xfrm>
            <a:off x="990720" y="1905120"/>
            <a:ext cx="1981080" cy="1320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1430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http://cp.home.agilent.com/upload/cmc_upload/E4443A_lg.jpg"/>
          <p:cNvPicPr/>
          <p:nvPr/>
        </p:nvPicPr>
        <p:blipFill>
          <a:blip r:embed="rId2"/>
          <a:stretch/>
        </p:blipFill>
        <p:spPr>
          <a:xfrm>
            <a:off x="990720" y="3657600"/>
            <a:ext cx="198108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2FE9-7391-40E6-8515-41E0F1F8F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614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nslating Jy into dBm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61720" y="192420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ile not comprised of the same units, we can make some reasonable assumptions to compare a Jy to dBm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9:41:37Z</dcterms:created>
  <dc:creator>TGERGELY</dc:creator>
  <dc:description/>
  <dc:language>en-US</dc:language>
  <cp:lastModifiedBy>Andrew Clegg</cp:lastModifiedBy>
  <cp:lastPrinted>2000-12-11T20:08:52Z</cp:lastPrinted>
  <dcterms:modified xsi:type="dcterms:W3CDTF">2010-06-01T00:43:36Z</dcterms:modified>
  <cp:revision>96</cp:revision>
  <dc:subject/>
  <dc:title>PowerPoint Presentation</dc:title>
</cp:coreProperties>
</file>