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70C-EEA2-49F8-9DAD-150B192B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65B-2821-4698-842F-CD091C3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760-0421-4F58-AF74-FF40CD67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4A1-502C-4DF6-9A86-F7BF3CE9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034-A4FF-4AFA-96DA-F8887D4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042-005E-4EA2-ADF9-E4F4A829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190-F1DE-4F08-9C9F-6AE25EC9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065-D186-4AA9-AD46-5E34A39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C9D-E315-4564-AEAD-7C2F0AD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664-A645-4483-A66D-5FCFFD1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275-988D-45E4-BAE5-FBB3BA0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730-1AC8-4204-A498-A0BBF5F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FFB-D20C-449C-B990-B61DD257803A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2A28-BE2E-44CC-BB6C-1398493789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Sciences Bas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ding Anten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Ponson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Kameya Osamu\My Documents\My Documents5\Freq-hogo2\IUCAF夏の学校\Ponsonby\09.jpg"/>
          <p:cNvPicPr/>
          <p:nvPr/>
        </p:nvPicPr>
        <p:blipFill>
          <a:blip r:embed="rId1"/>
          <a:srcRect l="19353" t="28290" r="10083" b="1157"/>
          <a:stretch/>
        </p:blipFill>
        <p:spPr>
          <a:xfrm>
            <a:off x="60948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Kameya Osamu\My Documents\My Documents5\Freq-hogo2\IUCAF夏の学校\Ponsonby\10.jpg"/>
          <p:cNvPicPr/>
          <p:nvPr/>
        </p:nvPicPr>
        <p:blipFill>
          <a:blip r:embed="rId1"/>
          <a:srcRect l="9631" t="13107" r="18363" b="25408"/>
          <a:stretch/>
        </p:blipFill>
        <p:spPr>
          <a:xfrm>
            <a:off x="304920" y="1168560"/>
            <a:ext cx="80769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Kameya Osamu\My Documents\My Documents5\Freq-hogo2\IUCAF夏の学校\Ponsonby\11.jpg"/>
          <p:cNvPicPr/>
          <p:nvPr/>
        </p:nvPicPr>
        <p:blipFill>
          <a:blip r:embed="rId1"/>
          <a:srcRect l="18755" t="26238" r="8673" b="28398"/>
          <a:stretch/>
        </p:blipFill>
        <p:spPr>
          <a:xfrm>
            <a:off x="1066680" y="609480"/>
            <a:ext cx="6705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Kameya Osamu\My Documents\My Documents5\Freq-hogo2\IUCAF夏の学校\Ponsonby\12.jpg"/>
          <p:cNvPicPr/>
          <p:nvPr/>
        </p:nvPicPr>
        <p:blipFill>
          <a:blip r:embed="rId1"/>
          <a:srcRect l="17136" t="27364" r="14321" b="24394"/>
          <a:stretch/>
        </p:blipFill>
        <p:spPr>
          <a:xfrm>
            <a:off x="1219320" y="474840"/>
            <a:ext cx="6400800" cy="63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Kameya Osamu\My Documents\My Documents5\Freq-hogo2\IUCAF夏の学校\Ponsonby\13.jpg"/>
          <p:cNvPicPr/>
          <p:nvPr/>
        </p:nvPicPr>
        <p:blipFill>
          <a:blip r:embed="rId1"/>
          <a:srcRect l="11746" t="36929" r="14087" b="10206"/>
          <a:stretch/>
        </p:blipFill>
        <p:spPr>
          <a:xfrm>
            <a:off x="457200" y="1066680"/>
            <a:ext cx="826128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正方形/長方形 2"/>
          <p:cNvSpPr/>
          <p:nvPr/>
        </p:nvSpPr>
        <p:spPr>
          <a:xfrm>
            <a:off x="7358040" y="6429240"/>
            <a:ext cx="714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Kameya Osamu\My Documents\My Documents5\Freq-hogo2\IUCAF夏の学校\Ponsonby\14.jpg"/>
          <p:cNvPicPr/>
          <p:nvPr/>
        </p:nvPicPr>
        <p:blipFill>
          <a:blip r:embed="rId1"/>
          <a:srcRect l="18755" t="26130" r="7663" b="23960"/>
          <a:stretch/>
        </p:blipFill>
        <p:spPr>
          <a:xfrm>
            <a:off x="1206360" y="338040"/>
            <a:ext cx="64137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Kameya Osamu\My Documents\My Documents5\Freq-hogo2\IUCAF夏の学校\Ponsonby\15.jpg"/>
          <p:cNvPicPr/>
          <p:nvPr/>
        </p:nvPicPr>
        <p:blipFill>
          <a:blip r:embed="rId1"/>
          <a:srcRect l="11791" t="2267" r="16924" b="23141"/>
          <a:stretch/>
        </p:blipFill>
        <p:spPr>
          <a:xfrm>
            <a:off x="762120" y="45720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Kameya Osamu\My Documents\My Documents5\Freq-hogo2\IUCAF夏の学校\Ponsonby\01.jpg"/>
          <p:cNvPicPr/>
          <p:nvPr/>
        </p:nvPicPr>
        <p:blipFill>
          <a:blip r:embed="rId1"/>
          <a:srcRect l="16426" t="22813" r="15512" b="30919"/>
          <a:stretch/>
        </p:blipFill>
        <p:spPr>
          <a:xfrm>
            <a:off x="1523880" y="374760"/>
            <a:ext cx="6172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Kameya Osamu\My Documents\My Documents5\Freq-hogo2\IUCAF夏の学校\Ponsonby\02.jpg"/>
          <p:cNvPicPr/>
          <p:nvPr/>
        </p:nvPicPr>
        <p:blipFill>
          <a:blip r:embed="rId1"/>
          <a:srcRect l="18422" t="19213" r="6982" b="28707"/>
          <a:stretch/>
        </p:blipFill>
        <p:spPr>
          <a:xfrm>
            <a:off x="1523880" y="380880"/>
            <a:ext cx="6172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Kameya Osamu\My Documents\My Documents5\Freq-hogo2\IUCAF夏の学校\Ponsonby\03.jpg"/>
          <p:cNvPicPr/>
          <p:nvPr/>
        </p:nvPicPr>
        <p:blipFill>
          <a:blip r:embed="rId1"/>
          <a:srcRect l="18948" t="30304" r="16247" b="0"/>
          <a:stretch/>
        </p:blipFill>
        <p:spPr>
          <a:xfrm>
            <a:off x="838080" y="685800"/>
            <a:ext cx="7353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Kameya Osamu\My Documents\My Documents5\Freq-hogo2\IUCAF夏の学校\Ponsonby\04.jpg"/>
          <p:cNvPicPr/>
          <p:nvPr/>
        </p:nvPicPr>
        <p:blipFill>
          <a:blip r:embed="rId1"/>
          <a:srcRect l="16744" t="6301" r="15574" b="21127"/>
          <a:stretch/>
        </p:blipFill>
        <p:spPr>
          <a:xfrm>
            <a:off x="914400" y="58752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Kameya Osamu\My Documents\My Documents5\Freq-hogo2\IUCAF夏の学校\Ponsonby\05.jpg"/>
          <p:cNvPicPr/>
          <p:nvPr/>
        </p:nvPicPr>
        <p:blipFill>
          <a:blip r:embed="rId1"/>
          <a:srcRect l="14721" t="17598" r="7663" b="17598"/>
          <a:stretch/>
        </p:blipFill>
        <p:spPr>
          <a:xfrm>
            <a:off x="1905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Kameya Osamu\My Documents\My Documents5\Freq-hogo2\IUCAF夏の学校\Ponsonby\06.jpg"/>
          <p:cNvPicPr/>
          <p:nvPr/>
        </p:nvPicPr>
        <p:blipFill>
          <a:blip r:embed="rId1"/>
          <a:srcRect l="23718" t="19365" r="15077" b="8063"/>
          <a:stretch/>
        </p:blipFill>
        <p:spPr>
          <a:xfrm>
            <a:off x="838080" y="374760"/>
            <a:ext cx="69343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ameya Osamu\My Documents\My Documents5\Freq-hogo2\IUCAF夏の学校\Ponsonby\07.jpg"/>
          <p:cNvPicPr/>
          <p:nvPr/>
        </p:nvPicPr>
        <p:blipFill>
          <a:blip r:embed="rId1"/>
          <a:srcRect l="18724" t="0" r="14311" b="38515"/>
          <a:stretch/>
        </p:blipFill>
        <p:spPr>
          <a:xfrm>
            <a:off x="838080" y="893880"/>
            <a:ext cx="7467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Kameya Osamu\My Documents\My Documents5\Freq-hogo2\IUCAF夏の学校\Ponsonby\08.jpg"/>
          <p:cNvPicPr/>
          <p:nvPr/>
        </p:nvPicPr>
        <p:blipFill>
          <a:blip r:embed="rId1"/>
          <a:srcRect l="14774" t="23221" r="10930" b="29120"/>
          <a:stretch/>
        </p:blipFill>
        <p:spPr>
          <a:xfrm>
            <a:off x="1219320" y="304920"/>
            <a:ext cx="693396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2:31:55Z</dcterms:created>
  <dc:creator>Kameya Osamu</dc:creator>
  <dc:description/>
  <dc:language>en-US</dc:language>
  <cp:lastModifiedBy>Willem Baan</cp:lastModifiedBy>
  <dcterms:modified xsi:type="dcterms:W3CDTF">2010-06-01T03:55:57Z</dcterms:modified>
  <cp:revision>5</cp:revision>
  <dc:subject/>
  <dc:title>Radio Sciences Basics Including Antennas</dc:title>
</cp:coreProperties>
</file>