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F3EB-7A4E-487A-9528-65D15ECF3EC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9C75-85C0-4D28-B263-69EB3681FA9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FF90-55B6-4BE0-AB08-0ACD194213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FF6D-2662-4F59-806F-A91331B159D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47BC-70AF-4907-BBFC-2C68D96B45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349A-492C-4B9E-9006-EDCCF741CDA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DDF7-6257-4B09-A807-7E9FB8F3452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B743-195D-4B24-824C-602BA3D40C8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634F-48FA-445B-BDB9-F475E45ECA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392D-199B-4D9D-8115-CF004929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35F-DE79-4F95-9655-BECE3AAA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528-8D72-40A6-B989-F5297807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BE40-5D92-4E67-89D6-6247017C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EE8-8C37-45AD-B37F-FFDE7F7A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B2C-D173-41C9-97CB-FE91DCA8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184-913E-46A5-8040-BC476F01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AE0-AB2F-42A9-BA65-EDEC3F9A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068-CADC-4E1F-A481-C81D0BE4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269-C2C3-4ED0-A073-B88596B4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D65-6247-42B5-B146-74BB2214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C693-DC44-41EF-AF46-3F0F4861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71AA-C6F7-4D6D-80D3-E060E5E111DE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3rd IUCAF Summer School, 3 Jun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80EE-285D-446F-A140-FDC633D192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 Astronomy Frequency Committee in Japa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898989"/>
                </a:solidFill>
                <a:latin typeface="Calibri"/>
              </a:rPr>
              <a:t>ＣＨＩＫＡＤＡ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, Yoshihi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NAOJ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9BD4-4A58-433B-81D5-BCB5482ACA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3rd IUCAF Summer School, 3 Jun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e of the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4284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eak up for radio astronomers as the 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unified public opinion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Japanese astronomy commun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フッター プレースホルダ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3rd IUCAF Summer School, 3 Jun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71D8-4ECA-4693-8359-893484CA1A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5"/>
          <p:cNvSpPr/>
          <p:nvPr/>
        </p:nvSpPr>
        <p:spPr>
          <a:xfrm>
            <a:off x="642960" y="3429000"/>
            <a:ext cx="15001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panese radio astronomers’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6"/>
          <p:cNvSpPr/>
          <p:nvPr/>
        </p:nvSpPr>
        <p:spPr>
          <a:xfrm>
            <a:off x="2643120" y="3429000"/>
            <a:ext cx="1857600" cy="11912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 Astronomy Frequency Committee in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テキスト ボックス 7"/>
          <p:cNvSpPr/>
          <p:nvPr/>
        </p:nvSpPr>
        <p:spPr>
          <a:xfrm>
            <a:off x="4929120" y="2857680"/>
            <a:ext cx="19288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ational regulatory bodies (IT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8"/>
          <p:cNvSpPr/>
          <p:nvPr/>
        </p:nvSpPr>
        <p:spPr>
          <a:xfrm>
            <a:off x="4929120" y="4214880"/>
            <a:ext cx="2000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tional regulatory bod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Ministry of Internal Affairs and Communic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グループ化 11"/>
          <p:cNvGrpSpPr/>
          <p:nvPr/>
        </p:nvGrpSpPr>
        <p:grpSpPr>
          <a:xfrm>
            <a:off x="6858000" y="2857680"/>
            <a:ext cx="1714680" cy="368280"/>
            <a:chOff x="6858000" y="2857680"/>
            <a:chExt cx="1714680" cy="368280"/>
          </a:xfrm>
        </p:grpSpPr>
        <p:sp>
          <p:nvSpPr>
            <p:cNvPr id="61" name="テキスト ボックス 9"/>
            <p:cNvSpPr/>
            <p:nvPr/>
          </p:nvSpPr>
          <p:spPr>
            <a:xfrm>
              <a:off x="7143840" y="2857680"/>
              <a:ext cx="1428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dust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左矢印 10"/>
            <p:cNvSpPr/>
            <p:nvPr/>
          </p:nvSpPr>
          <p:spPr>
            <a:xfrm>
              <a:off x="6858000" y="3000600"/>
              <a:ext cx="285480" cy="142920"/>
            </a:xfrm>
            <a:prstGeom prst="leftArrow">
              <a:avLst>
                <a:gd name="adj1" fmla="val 50000"/>
                <a:gd name="adj2" fmla="val 4986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グループ化 12"/>
          <p:cNvGrpSpPr/>
          <p:nvPr/>
        </p:nvGrpSpPr>
        <p:grpSpPr>
          <a:xfrm>
            <a:off x="6858000" y="3286080"/>
            <a:ext cx="1714680" cy="368280"/>
            <a:chOff x="6858000" y="3286080"/>
            <a:chExt cx="1714680" cy="368280"/>
          </a:xfrm>
        </p:grpSpPr>
        <p:sp>
          <p:nvSpPr>
            <p:cNvPr id="64" name="テキスト ボックス 13"/>
            <p:cNvSpPr/>
            <p:nvPr/>
          </p:nvSpPr>
          <p:spPr>
            <a:xfrm>
              <a:off x="7143840" y="3286080"/>
              <a:ext cx="1428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dust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左矢印 14"/>
            <p:cNvSpPr/>
            <p:nvPr/>
          </p:nvSpPr>
          <p:spPr>
            <a:xfrm>
              <a:off x="6858000" y="3429000"/>
              <a:ext cx="285480" cy="142920"/>
            </a:xfrm>
            <a:prstGeom prst="leftArrow">
              <a:avLst>
                <a:gd name="adj1" fmla="val 50000"/>
                <a:gd name="adj2" fmla="val 4986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グループ化 15"/>
          <p:cNvGrpSpPr/>
          <p:nvPr/>
        </p:nvGrpSpPr>
        <p:grpSpPr>
          <a:xfrm>
            <a:off x="6929280" y="4500720"/>
            <a:ext cx="1714680" cy="368280"/>
            <a:chOff x="6929280" y="4500720"/>
            <a:chExt cx="1714680" cy="368280"/>
          </a:xfrm>
        </p:grpSpPr>
        <p:sp>
          <p:nvSpPr>
            <p:cNvPr id="67" name="テキスト ボックス 16"/>
            <p:cNvSpPr/>
            <p:nvPr/>
          </p:nvSpPr>
          <p:spPr>
            <a:xfrm>
              <a:off x="7215120" y="4500720"/>
              <a:ext cx="1428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dust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左矢印 17"/>
            <p:cNvSpPr/>
            <p:nvPr/>
          </p:nvSpPr>
          <p:spPr>
            <a:xfrm>
              <a:off x="6929280" y="4643640"/>
              <a:ext cx="285480" cy="142920"/>
            </a:xfrm>
            <a:prstGeom prst="leftArrow">
              <a:avLst>
                <a:gd name="adj1" fmla="val 50000"/>
                <a:gd name="adj2" fmla="val 4986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グループ化 18"/>
          <p:cNvGrpSpPr/>
          <p:nvPr/>
        </p:nvGrpSpPr>
        <p:grpSpPr>
          <a:xfrm>
            <a:off x="6929280" y="4000680"/>
            <a:ext cx="1714680" cy="368280"/>
            <a:chOff x="6929280" y="4000680"/>
            <a:chExt cx="1714680" cy="368280"/>
          </a:xfrm>
        </p:grpSpPr>
        <p:sp>
          <p:nvSpPr>
            <p:cNvPr id="70" name="テキスト ボックス 19"/>
            <p:cNvSpPr/>
            <p:nvPr/>
          </p:nvSpPr>
          <p:spPr>
            <a:xfrm>
              <a:off x="7215120" y="4000680"/>
              <a:ext cx="1428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dust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左矢印 20"/>
            <p:cNvSpPr/>
            <p:nvPr/>
          </p:nvSpPr>
          <p:spPr>
            <a:xfrm>
              <a:off x="6929280" y="4143600"/>
              <a:ext cx="285480" cy="142920"/>
            </a:xfrm>
            <a:prstGeom prst="leftArrow">
              <a:avLst>
                <a:gd name="adj1" fmla="val 50000"/>
                <a:gd name="adj2" fmla="val 4986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グループ化 21"/>
          <p:cNvGrpSpPr/>
          <p:nvPr/>
        </p:nvGrpSpPr>
        <p:grpSpPr>
          <a:xfrm>
            <a:off x="6929280" y="5000760"/>
            <a:ext cx="1714680" cy="368280"/>
            <a:chOff x="6929280" y="5000760"/>
            <a:chExt cx="1714680" cy="368280"/>
          </a:xfrm>
        </p:grpSpPr>
        <p:sp>
          <p:nvSpPr>
            <p:cNvPr id="73" name="テキスト ボックス 22"/>
            <p:cNvSpPr/>
            <p:nvPr/>
          </p:nvSpPr>
          <p:spPr>
            <a:xfrm>
              <a:off x="7215120" y="5000760"/>
              <a:ext cx="1428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dust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左矢印 23"/>
            <p:cNvSpPr/>
            <p:nvPr/>
          </p:nvSpPr>
          <p:spPr>
            <a:xfrm>
              <a:off x="6929280" y="5143680"/>
              <a:ext cx="285480" cy="142920"/>
            </a:xfrm>
            <a:prstGeom prst="leftArrow">
              <a:avLst>
                <a:gd name="adj1" fmla="val 50000"/>
                <a:gd name="adj2" fmla="val 4986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グループ化 24"/>
          <p:cNvGrpSpPr/>
          <p:nvPr/>
        </p:nvGrpSpPr>
        <p:grpSpPr>
          <a:xfrm>
            <a:off x="6929280" y="5500800"/>
            <a:ext cx="1714680" cy="368280"/>
            <a:chOff x="6929280" y="5500800"/>
            <a:chExt cx="1714680" cy="368280"/>
          </a:xfrm>
        </p:grpSpPr>
        <p:sp>
          <p:nvSpPr>
            <p:cNvPr id="76" name="テキスト ボックス 25"/>
            <p:cNvSpPr/>
            <p:nvPr/>
          </p:nvSpPr>
          <p:spPr>
            <a:xfrm>
              <a:off x="7215120" y="5500800"/>
              <a:ext cx="1428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dust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左矢印 26"/>
            <p:cNvSpPr/>
            <p:nvPr/>
          </p:nvSpPr>
          <p:spPr>
            <a:xfrm>
              <a:off x="6929280" y="5643720"/>
              <a:ext cx="285480" cy="142920"/>
            </a:xfrm>
            <a:prstGeom prst="leftArrow">
              <a:avLst>
                <a:gd name="adj1" fmla="val 50000"/>
                <a:gd name="adj2" fmla="val 4986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右矢印 27"/>
          <p:cNvSpPr/>
          <p:nvPr/>
        </p:nvSpPr>
        <p:spPr>
          <a:xfrm>
            <a:off x="4500720" y="350028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右矢印 28"/>
          <p:cNvSpPr/>
          <p:nvPr/>
        </p:nvSpPr>
        <p:spPr>
          <a:xfrm>
            <a:off x="4500720" y="428616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右矢印 29"/>
          <p:cNvSpPr/>
          <p:nvPr/>
        </p:nvSpPr>
        <p:spPr>
          <a:xfrm>
            <a:off x="2143080" y="3500280"/>
            <a:ext cx="428760" cy="2239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右矢印 30"/>
          <p:cNvSpPr/>
          <p:nvPr/>
        </p:nvSpPr>
        <p:spPr>
          <a:xfrm>
            <a:off x="2143080" y="3786120"/>
            <a:ext cx="428760" cy="2239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右矢印 31"/>
          <p:cNvSpPr/>
          <p:nvPr/>
        </p:nvSpPr>
        <p:spPr>
          <a:xfrm>
            <a:off x="2143080" y="4071960"/>
            <a:ext cx="428760" cy="2239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右矢印 32"/>
          <p:cNvSpPr/>
          <p:nvPr/>
        </p:nvSpPr>
        <p:spPr>
          <a:xfrm>
            <a:off x="2143080" y="4357800"/>
            <a:ext cx="428760" cy="223560"/>
          </a:xfrm>
          <a:prstGeom prst="rightArrow">
            <a:avLst>
              <a:gd name="adj1" fmla="val 50000"/>
              <a:gd name="adj2" fmla="val 50078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四角形吹き出し 35"/>
          <p:cNvSpPr/>
          <p:nvPr/>
        </p:nvSpPr>
        <p:spPr>
          <a:xfrm>
            <a:off x="1071720" y="5000760"/>
            <a:ext cx="3643200" cy="1071360"/>
          </a:xfrm>
          <a:prstGeom prst="wedgeRectCallout">
            <a:avLst>
              <a:gd name="adj1" fmla="val 51115"/>
              <a:gd name="adj2" fmla="val -1408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ulatory bodies demand for unified opi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can we get </a:t>
            </a:r>
            <a:br>
              <a:rPr sz="4000"/>
            </a:b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unified public opin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eties of interest situ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bserving ban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F ↔ sub-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lescope diam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mall 1m ↔ large 64 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ies ↔ mountai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un b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iversity laboratory ↔ NAO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times, there might be conflicts of interes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フッター プレースホルダ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3rd IUCAF Summer School, 3 Jun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89E7-1DA0-44F8-A73E-CA1DC0DE54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us we need a committee to discus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“Radio Astronomy Frequency Committee in Japan ”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フッター プレースホルダ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3rd IUCAF Summer School, 3 Jun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AC8E-E26B-4B41-881D-259197BB82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ucture to Accomplish the Committee’s Ro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214600" y="1600200"/>
            <a:ext cx="3714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OJ is the only one observatory for common use in Japa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t is supported by Japanese astronomers’ communit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us, it is appropriate to have a division to handle regulatory matter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フッター プレースホルダ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3rd IUCAF Summer School, 3 Jun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15B2-577D-4A69-8DDD-884115CEA1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5"/>
          <p:cNvSpPr/>
          <p:nvPr/>
        </p:nvSpPr>
        <p:spPr>
          <a:xfrm>
            <a:off x="714240" y="4143240"/>
            <a:ext cx="150048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panese radio astronomers’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6"/>
          <p:cNvSpPr/>
          <p:nvPr/>
        </p:nvSpPr>
        <p:spPr>
          <a:xfrm>
            <a:off x="2857680" y="4143240"/>
            <a:ext cx="1857240" cy="11912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 Astronomy Frequency Committee in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右矢印 30"/>
          <p:cNvSpPr/>
          <p:nvPr/>
        </p:nvSpPr>
        <p:spPr>
          <a:xfrm>
            <a:off x="2214720" y="4214880"/>
            <a:ext cx="571320" cy="22392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33"/>
          <p:cNvSpPr/>
          <p:nvPr/>
        </p:nvSpPr>
        <p:spPr>
          <a:xfrm>
            <a:off x="2286000" y="1785960"/>
            <a:ext cx="2571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ering Committee of NA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34"/>
          <p:cNvSpPr/>
          <p:nvPr/>
        </p:nvSpPr>
        <p:spPr>
          <a:xfrm>
            <a:off x="642960" y="2857680"/>
            <a:ext cx="25718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ering Committee of NAOJ’s Radio Astronomy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テキスト ボックス 35"/>
          <p:cNvSpPr/>
          <p:nvPr/>
        </p:nvSpPr>
        <p:spPr>
          <a:xfrm>
            <a:off x="3786120" y="2928960"/>
            <a:ext cx="135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右矢印 40"/>
          <p:cNvSpPr/>
          <p:nvPr/>
        </p:nvSpPr>
        <p:spPr>
          <a:xfrm rot="5400000">
            <a:off x="3607200" y="3607560"/>
            <a:ext cx="857160" cy="2142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下矢印 41"/>
          <p:cNvSpPr/>
          <p:nvPr/>
        </p:nvSpPr>
        <p:spPr>
          <a:xfrm>
            <a:off x="3929040" y="2500200"/>
            <a:ext cx="214200" cy="3574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右矢印 42"/>
          <p:cNvSpPr/>
          <p:nvPr/>
        </p:nvSpPr>
        <p:spPr>
          <a:xfrm rot="16200000">
            <a:off x="1928880" y="385740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右矢印 43"/>
          <p:cNvSpPr/>
          <p:nvPr/>
        </p:nvSpPr>
        <p:spPr>
          <a:xfrm rot="10800000">
            <a:off x="3285720" y="3071880"/>
            <a:ext cx="428760" cy="2239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下矢印 44"/>
          <p:cNvSpPr/>
          <p:nvPr/>
        </p:nvSpPr>
        <p:spPr>
          <a:xfrm>
            <a:off x="3000240" y="2500200"/>
            <a:ext cx="214560" cy="35748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下矢印 45"/>
          <p:cNvSpPr/>
          <p:nvPr/>
        </p:nvSpPr>
        <p:spPr>
          <a:xfrm>
            <a:off x="3000240" y="3786120"/>
            <a:ext cx="214560" cy="35712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グループ化 48"/>
          <p:cNvGrpSpPr/>
          <p:nvPr/>
        </p:nvGrpSpPr>
        <p:grpSpPr>
          <a:xfrm>
            <a:off x="357120" y="5643720"/>
            <a:ext cx="5857920" cy="785520"/>
            <a:chOff x="357120" y="5643720"/>
            <a:chExt cx="5857920" cy="785520"/>
          </a:xfrm>
        </p:grpSpPr>
        <p:sp>
          <p:nvSpPr>
            <p:cNvPr id="110" name="正方形/長方形 46"/>
            <p:cNvSpPr/>
            <p:nvPr/>
          </p:nvSpPr>
          <p:spPr>
            <a:xfrm>
              <a:off x="357120" y="5643720"/>
              <a:ext cx="5857920" cy="785520"/>
            </a:xfrm>
            <a:prstGeom prst="rect">
              <a:avLst/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下矢印 36"/>
            <p:cNvSpPr/>
            <p:nvPr/>
          </p:nvSpPr>
          <p:spPr>
            <a:xfrm>
              <a:off x="428400" y="6000840"/>
              <a:ext cx="214200" cy="35712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テキスト ボックス 37"/>
            <p:cNvSpPr/>
            <p:nvPr/>
          </p:nvSpPr>
          <p:spPr>
            <a:xfrm>
              <a:off x="571320" y="5929200"/>
              <a:ext cx="30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ointment  and/or stee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右矢印 38"/>
            <p:cNvSpPr/>
            <p:nvPr/>
          </p:nvSpPr>
          <p:spPr>
            <a:xfrm rot="5400000">
              <a:off x="3861720" y="6067440"/>
              <a:ext cx="357120" cy="223560"/>
            </a:xfrm>
            <a:prstGeom prst="rightArrow">
              <a:avLst>
                <a:gd name="adj1" fmla="val 50000"/>
                <a:gd name="adj2" fmla="val 50052"/>
              </a:avLst>
            </a:prstGeom>
            <a:solidFill>
              <a:srgbClr val="00b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テキスト ボックス 39"/>
            <p:cNvSpPr/>
            <p:nvPr/>
          </p:nvSpPr>
          <p:spPr>
            <a:xfrm>
              <a:off x="4143240" y="592920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pply of memb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テキスト ボックス 47"/>
            <p:cNvSpPr/>
            <p:nvPr/>
          </p:nvSpPr>
          <p:spPr>
            <a:xfrm>
              <a:off x="2428920" y="564372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 members from NAO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 members from institutes other than NAO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gosima univ., Keio Univ., Univ. Tokyo, Univ. Hokkaido, Gifu Univ., Yamaguchi Univ., Waseda Univ., Univ. Tohoku, Tokai Univ., Univ. Nagoya, Inst. Space and Astronautical Science, Geospatial Information Authority of Jap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out of 9 NAOJ members belong to the Secretary Division of the committ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フッター プレースホルダ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3rd IUCAF Summer School, 3 Jun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4BD7-FCCB-440D-BEB7-052D954FC8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Secretary Division of the committ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have secretary division of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 full-time personn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 part-time personn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sts are paid by NAOJ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ckground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mittees are volunteer-based generall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mittee members meet and discuss, but are not expected to work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we have to work every day to protect radio astronomy against indust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olution is to have a secretary divis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フッター プレースホルダ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3rd IUCAF Summer School, 3 Jun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DEAB-A248-4BAB-B8B9-F9819B25B4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ave to have a national body for each country or region to decide and propose better regulatory ways to the regulatory authorities for radio astronom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フッター プレースホルダ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3rd IUCAF Summer School, 3 Jun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9363-8624-4489-9341-8A50E9BBBE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6:13:36Z</dcterms:created>
  <dc:creator>chikada</dc:creator>
  <dc:description/>
  <dc:language>en-US</dc:language>
  <cp:lastModifiedBy>chikada</cp:lastModifiedBy>
  <dcterms:modified xsi:type="dcterms:W3CDTF">2010-06-09T06:40:18Z</dcterms:modified>
  <cp:revision>36</cp:revision>
  <dc:subject/>
  <dc:title>Radio Astronomy Frequency Committee in Japan</dc:title>
</cp:coreProperties>
</file>